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1F32-858E-4928-BAD8-31FABBF2A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EC2C-1644-45F7-81CA-E0C08F100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B180-730D-4447-8FDE-C0CCBC24B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D75E-EECE-48A3-9233-2D5E6732F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05EB-A375-42F1-8299-0B50EA07C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6984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9680" y="121932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9036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6984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9680" y="380628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0D04-E26B-4F7A-B7D3-E0461E6DE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BB27-FC05-4C00-BCA6-1F181BB07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BC63-0DE9-4790-94C1-D07BB7DD2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9BBE-8E7B-42A8-B5D0-702D06A8D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0ACF-5C36-4F1A-9642-34E52921B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1160" y="380628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9AC2-114B-475D-848F-5B88BF005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1160" y="121932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806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E970-2545-428E-B211-D6D8A6AB6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324120"/>
            <a:ext cx="3504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  <a:ea typeface="Arial"/>
              </a:rPr>
              <a:t>© 2004 Pearson Addison-Wesley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4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c00"/>
                </a:solidFill>
                <a:latin typeface="Arial"/>
              </a:rPr>
              <a:t>2-</a:t>
            </a:r>
            <a:fld id="{4F18A37A-83BD-4CEC-8498-14A5D744E055}" type="slidenum">
              <a:rPr b="0" lang="en-US" sz="1000" spc="-1" strike="noStrike">
                <a:solidFill>
                  <a:srgbClr val="ff4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examples/chap07/Dots.java" TargetMode="External"/><Relationship Id="rId2" Type="http://schemas.openxmlformats.org/officeDocument/2006/relationships/hyperlink" Target="file:///../examples/chap07/DotsPanel.java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examples/chap07/RubberLines.java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c00"/>
                </a:solidFill>
                <a:latin typeface="Arial"/>
                <a:ea typeface="굴림"/>
              </a:rPr>
              <a:t>ITEC220 </a:t>
            </a:r>
            <a:br>
              <a:rPr sz="3200"/>
            </a:br>
            <a:r>
              <a:rPr b="1" lang="en-US" sz="3200" spc="-1" strike="noStrike">
                <a:solidFill>
                  <a:srgbClr val="ff4c00"/>
                </a:solidFill>
                <a:latin typeface="Arial"/>
                <a:ea typeface="굴림"/>
              </a:rPr>
              <a:t>GUI Lecture – Part 2 </a:t>
            </a:r>
            <a:endParaRPr b="1" lang="en-US" sz="32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ava Software Solutions,” by Lewis &amp; Lof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ava Foundations-Introduction to Program Design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&amp; Data Structures,” by Lewis, DePasquale, and C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8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7960" y="1143000"/>
            <a:ext cx="2619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F8FB-D175-4E1F-9284-B21E4E066429}" type="slidenum">
              <a:t>11</a:t>
            </a:fld>
          </a:p>
        </p:txBody>
      </p:sp>
    </p:spTree>
  </p:cSld>
  <p:transition spd="med"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Timer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ckage is a GUI component, but it has no visual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generates an action event at specified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rs can be used to manage any events that are based on a timed interval, such as an 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reate the illusion of movement, we use a timer to change the scene after an appropriate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2A95-21D1-4BDB-B8AF-A84758F8EA85}" type="slidenum">
              <a:t>12</a:t>
            </a:fld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The Timer Clas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s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start and stop the ti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lay can be set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or or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De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ebound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7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ebound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7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A39F-F6FE-4A6D-B1F5-2285AA67EAAB}" type="slidenum">
              <a:t>13</a:t>
            </a:fld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9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Polymorph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8320" y="1143000"/>
            <a:ext cx="5191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Choosers and Color Cho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50E2-32C3-45F2-A3AD-C63ABB9263A7}" type="slidenum">
              <a:t>15</a:t>
            </a:fld>
          </a:p>
        </p:txBody>
      </p:sp>
    </p:spTree>
  </p:cSld>
  <p:transition spd="med"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Dialog Boxe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a dialog box is a small window that "pops up" to interact with the user for a brief, specific purp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makes it easy to create dialog boxes for presenting information, confirming an action, or accepting an inpu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's now look at two other classes that let us create specialized dialog bo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716E-71EE-4BC2-B72F-57FE69866639}" type="slidenum">
              <a:t>16</a:t>
            </a:fld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File Choos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s often arise where we want the user to select a file stored on a disk drive, usually so that its contents can be read and proc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represen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File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simplifies th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can browse the disk and filter the file types display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File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1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4D77-CC02-4BC4-8B5D-2E8DAE21D11E}" type="slidenum">
              <a:t>17</a:t>
            </a:fld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olor Chooser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ny situations we want to allow the user to select a co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 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represent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ColorChoo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, simplifies th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r can choose a color from a palette or specify the color using RGB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Color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51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5A5E-2BDA-46C5-AA5A-85BEC8E88BE1}" type="slidenum">
              <a:t>18</a:t>
            </a:fld>
          </a:p>
        </p:txBody>
      </p:sp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6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Graphical User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Chapter 7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a1f"/>
                </a:solidFill>
                <a:latin typeface="Arial"/>
              </a:rPr>
              <a:t>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533520"/>
            <a:ext cx="4952880" cy="5867280"/>
          </a:xfrm>
          <a:prstGeom prst="rect">
            <a:avLst/>
          </a:prstGeom>
          <a:solidFill>
            <a:srgbClr val="e7b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Software Solutions,” by Lewis &amp; Lof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hapt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tura MT Script Capitals"/>
                <a:ea typeface="굴림"/>
              </a:rPr>
              <a:t>Java Foundations-Introduction to Program Design &amp; Data Structures,” by Lewis, DePasquale, and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6.6 – Tool Tip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ol t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hort line of text that appears over   a component when the mouse cursor is rested momentarily on top of the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tips usually inform the user about the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tips can be assigned by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ToolTip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 of a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Button (“Compute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oolTipText (“Calculates the area under the curve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0904-376A-4AB5-84DB-100A70E3D34E}" type="slidenum">
              <a:t>20</a:t>
            </a:fld>
          </a:p>
        </p:txBody>
      </p:sp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6.6 </a:t>
            </a:r>
            <a:r>
              <a:rPr b="1" lang="en-US" sz="3600" spc="-1" strike="noStrike">
                <a:solidFill>
                  <a:srgbClr val="ff4c00"/>
                </a:solidFill>
                <a:latin typeface="Arial"/>
                <a:ea typeface="굴림"/>
              </a:rPr>
              <a:t>–</a:t>
            </a: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 Mnemonics (1)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58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mnemon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 a character that allows the user to push a button or make a menu choice using the keyboard in addition to the mou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 example, when a mnemonic has been defined for a button, the user can hold down the Alt key and press the mnemonic character to activate (depress) the butt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571840" cy="21621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272360" y="3505320"/>
            <a:ext cx="1600200" cy="1981800"/>
            <a:chOff x="7272360" y="3505320"/>
            <a:chExt cx="1600200" cy="1981800"/>
          </a:xfrm>
        </p:grpSpPr>
        <p:sp>
          <p:nvSpPr>
            <p:cNvPr id="134" name=""/>
            <p:cNvSpPr/>
            <p:nvPr/>
          </p:nvSpPr>
          <p:spPr>
            <a:xfrm flipV="1">
              <a:off x="8077320" y="350532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72360" y="4419720"/>
              <a:ext cx="1600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nemonic character ‘f’ set for the Off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67E7-2F46-43A8-9BA4-3903E833F0B2}" type="slidenum">
              <a:t>21</a:t>
            </a:fld>
          </a:p>
        </p:txBody>
      </p:sp>
    </p:spTree>
  </p:cSld>
  <p:transition spd="med">
    <p:wheel spokes="1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6.6 </a:t>
            </a:r>
            <a:r>
              <a:rPr b="1" lang="en-US" sz="3600" spc="-1" strike="noStrike">
                <a:solidFill>
                  <a:srgbClr val="ff4c00"/>
                </a:solidFill>
                <a:latin typeface="Arial"/>
                <a:ea typeface="굴림"/>
              </a:rPr>
              <a:t>–</a:t>
            </a: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 Mnemonics (2)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95280"/>
            <a:ext cx="6095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set the mnemonic for a component using the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setMnemonic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method of the compon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ce set, a character in the label will be underlined to indicate that it can be used as a shortc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Button (“Off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Mnemonic (“f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571840" cy="21621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7272360" y="3505320"/>
            <a:ext cx="1600200" cy="1981800"/>
            <a:chOff x="7272360" y="3505320"/>
            <a:chExt cx="1600200" cy="1981800"/>
          </a:xfrm>
        </p:grpSpPr>
        <p:sp>
          <p:nvSpPr>
            <p:cNvPr id="140" name=""/>
            <p:cNvSpPr/>
            <p:nvPr/>
          </p:nvSpPr>
          <p:spPr>
            <a:xfrm flipV="1">
              <a:off x="8077320" y="350532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72360" y="4419720"/>
              <a:ext cx="1600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nemonic character ‘f’ set for the Off but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4BC8-6BE7-440B-8663-52F5B8C2D960}" type="slidenum">
              <a:t>22</a:t>
            </a:fld>
          </a:p>
        </p:txBody>
      </p:sp>
    </p:spTree>
  </p:cSld>
  <p:transition spd="med">
    <p:wheel spokes="1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9760" y="1143000"/>
            <a:ext cx="4582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652F-3261-4A64-AE78-A27B1AAABD70}" type="slidenum">
              <a:t>3</a:t>
            </a:fld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related to the mouse are separated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use ev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use motion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819520"/>
          <a:ext cx="6629400" cy="3200400"/>
        </p:xfrm>
        <a:graphic>
          <a:graphicData uri="http://schemas.openxmlformats.org/drawingml/2006/table">
            <a:tbl>
              <a:tblPr/>
              <a:tblGrid>
                <a:gridCol w="2209680"/>
                <a:gridCol w="441972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clic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 and released without moving the mouse in betw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nto (over) a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x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ff of a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BD64-DF61-491B-B8D2-54E8B9B553D0}" type="slidenum">
              <a:t>4</a:t>
            </a:fld>
          </a:p>
        </p:txBody>
      </p:sp>
    </p:spTree>
  </p:cSld>
  <p:transition spd="med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Motion Ev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1969920"/>
          <a:ext cx="6629400" cy="1078200"/>
        </p:xfrm>
        <a:graphic>
          <a:graphicData uri="http://schemas.openxmlformats.org/drawingml/2006/table">
            <a:tbl>
              <a:tblPr/>
              <a:tblGrid>
                <a:gridCol w="2209680"/>
                <a:gridCol w="4419720"/>
              </a:tblGrid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drag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 while the mouse button is pressed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990720" y="342900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ers for mouse events are created us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is passed to the appropriate method when a mouse even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EC49-2F6D-4996-AC52-10CF4788C613}" type="slidenum">
              <a:t>5</a:t>
            </a:fld>
          </a:p>
        </p:txBody>
      </p:sp>
    </p:spTree>
  </p:cSld>
  <p:transition spd="med">
    <p:wheel spokes="1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program, we may only care about one or two mouse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tisfy the implementation of a listener interface, empty methods must be provided for unused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Dot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2"/>
              </a:rPr>
              <a:t>Dot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091F-D9A3-4C0D-9E5D-64E4564E6ADB}" type="slidenum">
              <a:t>6</a:t>
            </a:fld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Mouse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bberban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visual effect in which a shape is "stretched" as it is drawn using the m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continually redraws a line as the mouse is drag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RubberLines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RubberLines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1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DEE7-7FC1-4D6C-8CB5-F5769383377E}" type="slidenum">
              <a:t>7</a:t>
            </a:fld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ey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 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generated when the user types on the key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8800" y="2286000"/>
          <a:ext cx="6553080" cy="1549440"/>
        </p:xfrm>
        <a:graphic>
          <a:graphicData uri="http://schemas.openxmlformats.org/drawingml/2006/table">
            <a:tbl>
              <a:tblPr/>
              <a:tblGrid>
                <a:gridCol w="1828800"/>
                <a:gridCol w="47242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ty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 and re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990720" y="40384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ers for key events are created by implementing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 is passed to the appropriate method when a key even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E922-CE14-42FA-8639-88ED3C87F78A}" type="slidenum">
              <a:t>8</a:t>
            </a:fld>
          </a:p>
        </p:txBody>
      </p:sp>
    </p:spTree>
  </p:cSld>
  <p:transition spd="med">
    <p:wheel spokes="1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c00"/>
                </a:solidFill>
                <a:latin typeface="Arial"/>
              </a:rPr>
              <a:t>Key Events</a:t>
            </a:r>
            <a:endParaRPr b="1" lang="en-US" sz="3600" spc="-1" strike="noStrike">
              <a:solidFill>
                <a:srgbClr val="ff4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onent that generates a key event is the one that has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yboard foc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in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can be used to determine which key was p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example "moves" an image of an arrow as the user types the keyboard arrow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rection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2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rectionPanel.j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age 42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2039-C93E-4A36-B1DC-01E5752BCA1F}" type="slidenum">
              <a:t>9</a:t>
            </a:fld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49:24Z</dcterms:created>
  <dc:creator>Copyright 2004 Pearson Addison-Wesley</dc:creator>
  <dc:description/>
  <dc:language>en-US</dc:language>
  <cp:lastModifiedBy>hlee3</cp:lastModifiedBy>
  <dcterms:modified xsi:type="dcterms:W3CDTF">2008-01-17T01:10:06Z</dcterms:modified>
  <cp:revision>48</cp:revision>
  <dc:subject/>
  <dc:title>PowerPoint Presentation</dc:title>
</cp:coreProperties>
</file>