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D8E40-B7F2-40CD-A149-BA50B93E07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7EA1E-F24C-40A5-A146-9950CE4A5F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8DC21-29F2-4E91-99AC-7F85023CFB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984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4968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36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984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4968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BA1D3-1BDF-43BF-BA00-240B013881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AF9E4-4B6B-43FB-8495-DE779B3842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6984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968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9036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6984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4968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BD8D9-493D-4682-91FB-96A7D9D714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637DB-FCF2-47CB-95C7-454E9FF96F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E290C-437A-4A86-8A70-54BB2A2398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BA30D-659E-49B9-AD71-06AAA16989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CCCF4-159B-46B8-A1A0-1D6F763320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0C35F-EF76-4190-97F1-1B2A175CB6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977D5-88D5-435A-965A-C26144FBCB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90720" y="6324120"/>
            <a:ext cx="35049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4c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4c00"/>
                </a:solidFill>
                <a:latin typeface="Arial"/>
                <a:ea typeface="Arial"/>
              </a:rPr>
              <a:t>© 2004 Pearson Addison-Wesley. All rights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5800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4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4c00"/>
                </a:solidFill>
                <a:latin typeface="Arial"/>
              </a:rPr>
              <a:t>2-</a:t>
            </a:r>
            <a:fld id="{89C6AB1C-81A1-44C2-BE59-C4492F319049}" type="slidenum">
              <a:rPr b="0" lang="en-US" sz="1000" spc="-1" strike="noStrike">
                <a:solidFill>
                  <a:srgbClr val="ff4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../examples/chap03/LabelDemo.java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../examples/chap04/PushCounter.java" TargetMode="External"/><Relationship Id="rId2" Type="http://schemas.openxmlformats.org/officeDocument/2006/relationships/hyperlink" Target="file:///../examples/chap04/PushCounterPanel.java" TargetMode="Externa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../examples/chap04/Fahrenheit.java" TargetMode="External"/><Relationship Id="rId2" Type="http://schemas.openxmlformats.org/officeDocument/2006/relationships/hyperlink" Target="file:///../examples/chap04/FahrenheitPanel.java" TargetMode="Externa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../examples/chap05/EvenOdd.java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examples/chap03/NestedPanels.java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419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4c00"/>
                </a:solidFill>
                <a:latin typeface="Arial"/>
                <a:ea typeface="굴림"/>
              </a:rPr>
              <a:t>ITEC220 </a:t>
            </a:r>
            <a:br>
              <a:rPr sz="3200"/>
            </a:br>
            <a:r>
              <a:rPr b="1" lang="en-US" sz="3200" spc="-1" strike="noStrike">
                <a:solidFill>
                  <a:srgbClr val="ff4c00"/>
                </a:solidFill>
                <a:latin typeface="Arial"/>
                <a:ea typeface="굴림"/>
              </a:rPr>
              <a:t>GUI Lecture – Part 1 </a:t>
            </a:r>
            <a:endParaRPr b="1" lang="en-US" sz="32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381880" cy="4495680"/>
          </a:xfrm>
          <a:prstGeom prst="rect">
            <a:avLst/>
          </a:prstGeom>
          <a:solidFill>
            <a:srgbClr val="e7ba9a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Referen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Java Software Solutions,” by Lewis &amp; Lof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hapter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hapter 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hapter 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hapter 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Java Foundations-Introduction to Program Design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   &amp; Data Structures,” by Lewis, DePasquale, and Ch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hapter 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69040" y="1143000"/>
            <a:ext cx="43441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s and Contai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50292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FEA20-5C77-4EDA-8597-08233BA4D483}" type="slidenum">
              <a:t>10</a:t>
            </a:fld>
          </a:p>
        </p:txBody>
      </p:sp>
    </p:spTree>
  </p:cSld>
  <p:transition spd="med">
    <p:wheel spokes="1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mag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s are often used in a programs with a graphical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can manage images in both JPEG and GIF forma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we've seen,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Lab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 can be used to display a line of 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can also be used to display an im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is, a label can be composed of text, and image, or both at the sam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923DC-5B0C-4F4E-950F-3B9D713720E8}" type="slidenum">
              <a:t>11</a:t>
            </a:fld>
          </a:p>
        </p:txBody>
      </p:sp>
    </p:spTree>
  </p:cSld>
  <p:transition spd="med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Imag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ageIc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is used to represent an image that is stored in a lab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osition of the text relative to the image can be set explicit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lignment of the text and image within the label can be set as we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abelDemo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149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FC633-C935-4BD5-850B-F018C72D4C25}" type="slidenum">
              <a:t>12</a:t>
            </a:fld>
          </a:p>
        </p:txBody>
      </p:sp>
    </p:spTree>
  </p:cSld>
  <p:transition spd="med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hapter 4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4560" y="1828800"/>
            <a:ext cx="3429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3a1f"/>
                </a:solidFill>
                <a:latin typeface="Arial"/>
              </a:rPr>
              <a:t>Writing Cl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86200" y="533520"/>
            <a:ext cx="4952880" cy="5867280"/>
          </a:xfrm>
          <a:prstGeom prst="rect">
            <a:avLst/>
          </a:prstGeom>
          <a:solidFill>
            <a:srgbClr val="e7b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atura MT Script Capitals"/>
                <a:ea typeface="굴림"/>
              </a:rPr>
              <a:t>Java Software Solutions,” by Lewis &amp; Lof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Chapte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hapter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Chapter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Chapter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atura MT Script Capitals"/>
                <a:ea typeface="굴림"/>
              </a:rPr>
              <a:t>Java Foundations-Introduction to Program Design &amp; Data Structures,” by Lewis, DePasquale, and 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hapter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68320" y="1143000"/>
            <a:ext cx="387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al 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tons and Text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34290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F9FE7-75A7-499B-A4A9-6B4AC38F60FE}" type="slidenum">
              <a:t>14</a:t>
            </a:fld>
          </a:p>
        </p:txBody>
      </p:sp>
    </p:spTree>
  </p:cSld>
  <p:transition spd="med">
    <p:wheel spokes="1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Graphical User Interfac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raphical User Interface (GUI) in Java is created with at least three kinds of object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en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've previously discuss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mpon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ich are objects that represent screen elemen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els, buttons, text fields, menus, 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components a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tain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hold and organize other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s, panels, applets, dialog box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BE91B-150E-41B8-8FAD-9E32FBA5DBFC}" type="slidenum">
              <a:t>15</a:t>
            </a:fld>
          </a:p>
        </p:txBody>
      </p:sp>
    </p:spTree>
  </p:cSld>
  <p:transition spd="med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Even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n object that represents some activity to which we may want to respo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we may want our program to perform some action when the following occu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ouse is mov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ouse is dragge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mouse button is click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graphical button is click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keyboard key is press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timer expi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ts often correspond to user actions, but not alw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F31CC-84CF-454A-9B97-B5F555B9D358}" type="slidenum">
              <a:t>16</a:t>
            </a:fld>
          </a:p>
        </p:txBody>
      </p:sp>
    </p:spTree>
  </p:cSld>
  <p:transition spd="med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Events and Listene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Java standard class library contains several classes that represent typical ev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s, such as a graphical button, generate (or fire) an event when it occu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iste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 "waits" for an event to occur and responds according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an design listener objects to take whatever actions are appropriate when an event occu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023AE-82BC-4C4C-8307-45FBF4F4F585}" type="slidenum">
              <a:t>17</a:t>
            </a:fld>
          </a:p>
        </p:txBody>
      </p:sp>
    </p:spTree>
  </p:cSld>
  <p:transition spd="med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Events and Listene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174680" y="1828800"/>
            <a:ext cx="3132720" cy="2439360"/>
            <a:chOff x="1174680" y="1828800"/>
            <a:chExt cx="3132720" cy="2439360"/>
          </a:xfrm>
        </p:grpSpPr>
        <p:sp>
          <p:nvSpPr>
            <p:cNvPr id="119" name=""/>
            <p:cNvSpPr/>
            <p:nvPr/>
          </p:nvSpPr>
          <p:spPr>
            <a:xfrm>
              <a:off x="1998720" y="1828800"/>
              <a:ext cx="1447920" cy="1600200"/>
            </a:xfrm>
            <a:prstGeom prst="flowChartProcess">
              <a:avLst/>
            </a:prstGeom>
            <a:solidFill>
              <a:srgbClr val="f5e9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74680" y="3564360"/>
              <a:ext cx="313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A component ob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may generate an ev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906800" y="1828800"/>
            <a:ext cx="3315600" cy="2744280"/>
            <a:chOff x="4906800" y="1828800"/>
            <a:chExt cx="3315600" cy="2744280"/>
          </a:xfrm>
        </p:grpSpPr>
        <p:sp>
          <p:nvSpPr>
            <p:cNvPr id="122" name=""/>
            <p:cNvSpPr/>
            <p:nvPr/>
          </p:nvSpPr>
          <p:spPr>
            <a:xfrm>
              <a:off x="5884920" y="1828800"/>
              <a:ext cx="1447920" cy="1600200"/>
            </a:xfrm>
            <a:prstGeom prst="flowChartProcess">
              <a:avLst/>
            </a:prstGeom>
            <a:solidFill>
              <a:srgbClr val="f5e9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i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906800" y="3564360"/>
              <a:ext cx="3315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A corresponding li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object is designed 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respond to the ev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522600" y="1523880"/>
            <a:ext cx="2210040" cy="838440"/>
            <a:chOff x="3522600" y="1523880"/>
            <a:chExt cx="2210040" cy="838440"/>
          </a:xfrm>
        </p:grpSpPr>
        <p:sp>
          <p:nvSpPr>
            <p:cNvPr id="125" name=""/>
            <p:cNvSpPr/>
            <p:nvPr/>
          </p:nvSpPr>
          <p:spPr>
            <a:xfrm>
              <a:off x="3522600" y="2362320"/>
              <a:ext cx="221004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91120" y="1523880"/>
              <a:ext cx="838080" cy="685800"/>
            </a:xfrm>
            <a:prstGeom prst="flowChartProcess">
              <a:avLst/>
            </a:prstGeom>
            <a:solidFill>
              <a:srgbClr val="f5e9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v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772640" y="4860000"/>
            <a:ext cx="5807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When the event occurs, the component 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the appropriate method of the listene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passing an object that describes the 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14A75-A692-4C02-A4B1-4B33F914E303}" type="slidenum">
              <a:t>18</a:t>
            </a:fld>
          </a:p>
        </p:txBody>
      </p:sp>
    </p:spTree>
  </p:cSld>
  <p:transition>
    <p:wheel spokes="1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GUI Developmen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ly we use components and events that are predefined by classes in the Java class libr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, to create a Java program that uses a GUI we mus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ntiate and set up the necessary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 listener classes for any events we care abo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 the relationship between listeners and components that generate the corresponding ev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's now explore some new components and see how this all comes toge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EBF30-81E2-4AFB-BA4B-1F81322D76C3}" type="slidenum">
              <a:t>19</a:t>
            </a:fld>
          </a:p>
        </p:txBody>
      </p:sp>
    </p:spTree>
  </p:cSld>
  <p:transition spd="med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hapter 3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04560" y="1828800"/>
            <a:ext cx="3429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3a1f"/>
                </a:solidFill>
                <a:latin typeface="Arial"/>
              </a:rPr>
              <a:t>Using Classes and Ob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533520"/>
            <a:ext cx="4952880" cy="5867280"/>
          </a:xfrm>
          <a:prstGeom prst="rect">
            <a:avLst/>
          </a:prstGeom>
          <a:solidFill>
            <a:srgbClr val="e7b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atura MT Script Capitals"/>
                <a:ea typeface="굴림"/>
              </a:rPr>
              <a:t>Java Software Solutions,” by Lewis &amp; Lof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hapte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Chapter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Chapter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Chapter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atura MT Script Capitals"/>
                <a:ea typeface="굴림"/>
              </a:rPr>
              <a:t>Java Foundations-Introduction to Program Design &amp; Data Structures,” by Lewis, DePasquale, and 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hapter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1143000"/>
            <a:ext cx="36356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tons and Text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39625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71E80-2F23-4986-B24E-C09EB9546EE0}" type="slidenum">
              <a:t>20</a:t>
            </a:fld>
          </a:p>
        </p:txBody>
      </p:sp>
    </p:spTree>
  </p:cSld>
  <p:transition spd="med">
    <p:wheel spokes="1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Button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ush butt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component that allows the user to initiate an action by pressing a graphical button using the mou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ush button is defined by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Butt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generates 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ction ev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shCoun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xample displays a push button that increments a counter each time it is push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ushCounter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186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ushCounterPanel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187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3828E-6B32-49C5-87D5-34963912C44D}" type="slidenum">
              <a:t>21</a:t>
            </a:fld>
          </a:p>
        </p:txBody>
      </p:sp>
    </p:spTree>
  </p:cSld>
  <p:transition spd="med"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Push Counter Exampl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mponents of the GUI are the button, a label to display the counter, a panel to organize the components, and the main fr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shCounterPan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is represents the panel used to display the button and lab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shCounterPan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is deriv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ing inheri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nstructor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shCounterPan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ts up the elements of the GUI and initializes the counter to zer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3C2A5-94C1-4359-ADFC-D789064B9890}" type="slidenum">
              <a:t>22</a:t>
            </a:fld>
          </a:p>
        </p:txBody>
      </p:sp>
    </p:spTree>
  </p:cSld>
  <p:transition spd="med"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Push Counter Exampl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uttonListe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is the listener for the action event generated by the butt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implemented as 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ner cla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ich means it is defined within the body of another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facilitates the communication between the listener and the GUI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 classes should only be used in situations where there is an intimate relationship between the two classes and the inner class is not needed in any other con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284EA-B299-41C0-81C4-0D6DF2EF0C6B}" type="slidenum">
              <a:t>23</a:t>
            </a:fld>
          </a:p>
        </p:txBody>
      </p:sp>
    </p:spTree>
  </p:cSld>
  <p:transition spd="med">
    <p:wheel spokes="1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Push Counter Exampl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stener classes are written by implementing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istener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uttonListe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implements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terface is a list of methods that the implementing class must def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nly method in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terface is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tionPerform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Java class library contains interfaces for many types of ev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BC0B2-82C1-4AE5-9D78-BAB6BCA98D7F}" type="slidenum">
              <a:t>24</a:t>
            </a:fld>
          </a:p>
        </p:txBody>
      </p:sp>
    </p:spTree>
  </p:cSld>
  <p:transition spd="med">
    <p:wheel spokes="1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Push Counter Exampl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shCounterPan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structo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ntiates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ttonListen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es the relationship between the button and the listener by the call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ActionListe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the user presses the button, the button component creates 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tionEv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 and calls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tionPerform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of the listen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tionPerform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increments the counter and resets the text of the lab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9BC6C-0639-4BBB-B45B-2FF0B70861DF}" type="slidenum">
              <a:t>25</a:t>
            </a:fld>
          </a:p>
        </p:txBody>
      </p:sp>
    </p:spTree>
  </p:cSld>
  <p:transition spd="med">
    <p:wheel spokes="1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ext Field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's look at another GUI example that uses another type of compon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xt fiel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lows the user to enter one line of inp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cursor is in the text field, the text field component generates an action event when the enter key is pres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ahrenheit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19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ahrenheitPanel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19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373BE-33F5-4737-AF2B-00CEE6CA7857}" type="slidenum">
              <a:t>26</a:t>
            </a:fld>
          </a:p>
        </p:txBody>
      </p:sp>
    </p:spTree>
  </p:cSld>
  <p:transition spd="med">
    <p:wheel spokes="1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Fahrenheit Exampl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shCoun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xample, the GUI is set up in a separate panel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mpListe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ner class defines the listener for the action event generated by the text fie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hrenheitPan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structor instantiates the listener and adds it to the text fie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the user types a temperature and presses enter, the text field generates the action event and calls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tionPerform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of the listen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tionPerform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computes the conversion and updates the result lab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B5244-2BF0-46B3-BCD7-4F1CAF07A60A}" type="slidenum">
              <a:t>27</a:t>
            </a:fld>
          </a:p>
        </p:txBody>
      </p:sp>
    </p:spTree>
  </p:cSld>
  <p:transition spd="med">
    <p:wheel spokes="1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hapter 5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04560" y="1828800"/>
            <a:ext cx="3429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3a1f"/>
                </a:solidFill>
                <a:latin typeface="Arial"/>
              </a:rPr>
              <a:t>Conditionals and Loo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533520"/>
            <a:ext cx="4952880" cy="5867280"/>
          </a:xfrm>
          <a:prstGeom prst="rect">
            <a:avLst/>
          </a:prstGeom>
          <a:solidFill>
            <a:srgbClr val="e7b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atura MT Script Capitals"/>
                <a:ea typeface="굴림"/>
              </a:rPr>
              <a:t>Java Software Solutions,” by Lewis &amp; Lof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Chapte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Chapter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hapter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Chapter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atura MT Script Capitals"/>
                <a:ea typeface="굴림"/>
              </a:rPr>
              <a:t>Java Foundations-Introduction to Program Design &amp; Data Structures,” by Lewis, DePasquale, and 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hapter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1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68680" y="1143000"/>
            <a:ext cx="28555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51055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A15AB-8343-48E1-94D9-8CAD14D5CA19}" type="slidenum">
              <a:t>29</a:t>
            </a:fld>
          </a:p>
        </p:txBody>
      </p:sp>
    </p:spTree>
  </p:cSld>
  <p:transition spd="med">
    <p:wheel spokes="1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69040" y="1143000"/>
            <a:ext cx="43441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s and Contai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44956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9EF25-CEF4-4DFD-9FBB-1F4B54289CE4}" type="slidenum">
              <a:t>3</a:t>
            </a:fld>
          </a:p>
        </p:txBody>
      </p:sp>
    </p:spTree>
  </p:cSld>
  <p:transition spd="med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Dialog Box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alog bo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window that appears on top of any currently active wind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may be used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y infor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irm an 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 the user to enter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ck a col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ose a f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ialog box usually has a specific, solitary purpose, and the user interaction with it is brie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99118-AAB9-4949-971F-944F04088DB3}" type="slidenum">
              <a:t>30</a:t>
            </a:fld>
          </a:p>
        </p:txBody>
      </p:sp>
    </p:spTree>
  </p:cSld>
  <p:transition spd="med">
    <p:wheel spokes="1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Dialog Box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OptionPa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provides methods that simplify the creation of some types of dialog box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venOdd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26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9375A-A793-408D-A619-9B457E519C4F}" type="slidenum">
              <a:t>31</a:t>
            </a:fld>
          </a:p>
        </p:txBody>
      </p:sp>
    </p:spTree>
  </p:cSld>
  <p:transition spd="med">
    <p:wheel spokes="1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heck Box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eck bo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button that can be toggled on or of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represented by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CheckBo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like a push button, which generates an action event, a check box generates 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tem ev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ever it changes state (is checked on or off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emListe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terface is used to define item event listen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heck box calls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emStateChang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of the listener when it is toggl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D4267-5845-4906-AC0A-65BF7098234A}" type="slidenum">
              <a:t>32</a:t>
            </a:fld>
          </a:p>
        </p:txBody>
      </p:sp>
    </p:spTree>
  </p:cSld>
  <p:transition spd="med">
    <p:wheel spokes="1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heck Box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's examine a program that uses check boxes to determine the style of a label's text st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uses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, which represents a character font'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mily name (such as Times or Couri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yle (bold, italic, or both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nt 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yleOptions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26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yleOptionsPanel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266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AE43B-D389-48A4-ACFA-9B61ECA49A70}" type="slidenum">
              <a:t>33</a:t>
            </a:fld>
          </a:p>
        </p:txBody>
      </p:sp>
    </p:spTree>
  </p:cSld>
  <p:transition spd="med">
    <p:wheel spokes="1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Radio Button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roup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adio butt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presents a set of mutually exclusive options – only one can be selected at any given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a radio button from a group is selected, the button that is currently "on" in the group is automatically toggled of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define the group of radio buttons that will work together, each radio button is added to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radio button generates an action ev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E95B4-FE01-4EA4-BDDC-B9D5B87A57D9}" type="slidenum">
              <a:t>34</a:t>
            </a:fld>
          </a:p>
        </p:txBody>
      </p:sp>
    </p:spTree>
  </p:cSld>
  <p:transition spd="med">
    <p:wheel spokes="1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Radio Button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's look at a program that uses radio buttons to determine which line of text to displ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QuoteOptions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269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QuoteOptionsPanel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27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 and contrast check boxes and radio butt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boxes work independently to provide a boolean op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dio buttons work as a group to provide a set of mutually exclusive op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719D1-1088-4C62-9468-B7F401B73B36}" type="slidenum">
              <a:t>35</a:t>
            </a:fld>
          </a:p>
        </p:txBody>
      </p:sp>
    </p:spTree>
  </p:cSld>
  <p:transition spd="med">
    <p:wheel spokes="1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hapter 6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304560" y="1828800"/>
            <a:ext cx="3429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3a1f"/>
                </a:solidFill>
                <a:latin typeface="Arial"/>
              </a:rPr>
              <a:t>Object-Oriented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533520"/>
            <a:ext cx="4952880" cy="5867280"/>
          </a:xfrm>
          <a:prstGeom prst="rect">
            <a:avLst/>
          </a:prstGeom>
          <a:solidFill>
            <a:srgbClr val="e7b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atura MT Script Capitals"/>
                <a:ea typeface="굴림"/>
              </a:rPr>
              <a:t>Java Software Solutions,” by Lewis &amp; Lof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Chapte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Chapter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Chapter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hapter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atura MT Script Capitals"/>
                <a:ea typeface="굴림"/>
              </a:rPr>
              <a:t>Java Foundations-Introduction to Program Design &amp; Data Structures,” by Lewis, DePasquale, and 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hapter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1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1143000"/>
            <a:ext cx="35334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 Design and 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28800" y="56386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09066-FCC6-4AAA-8C78-8A639ED60546}" type="slidenum">
              <a:t>37</a:t>
            </a:fld>
          </a:p>
        </p:txBody>
      </p:sp>
    </p:spTree>
  </p:cSld>
  <p:transition spd="med">
    <p:wheel spokes="1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GUI Design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must remember that the goal of software is to help the user solve the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that end, the GUI designer shoul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now the 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vent user err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mize user 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 consist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's discuss each of these in more det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CF438-D831-436D-A6A7-EF8AA3E4CB84}" type="slidenum">
              <a:t>38</a:t>
            </a:fld>
          </a:p>
        </p:txBody>
      </p:sp>
    </p:spTree>
  </p:cSld>
  <p:transition spd="med">
    <p:wheel spokes="1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Know the User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ing the user implies an understanding of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user's true nee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user's common activ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user's level of expertise in the problem domain and in computer proces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hould also realize these issues may differ for different us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ember, to the user, the interfac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pro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3383B-8E92-4C71-B4E1-C6756475F7CE}" type="slidenum">
              <a:t>39</a:t>
            </a:fld>
          </a:p>
        </p:txBody>
      </p:sp>
    </p:spTree>
  </p:cSld>
  <p:transition spd="med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Graphical Application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are call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mmand-line applic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ich interact with the user using simple text prom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's examine some Java applications that have graphical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components will serve as a foundation to programs that have true graphical user interfaces (GUI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82EA6-8775-4935-8231-E59C4CF88667}" type="slidenum">
              <a:t>4</a:t>
            </a:fld>
          </a:p>
        </p:txBody>
      </p:sp>
    </p:spTree>
  </p:cSld>
  <p:transition spd="med">
    <p:wheel spokes="1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Prevent User Erro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ever possible, we should design user interfaces that minimize possible user mistak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hould choose the best GUI components for each tas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in a situation where there are only a few valid options, using a menu or radio buttons would be better than an open text fie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ror messages should guide the user appropriate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E0A60-4A05-486D-89C6-D7D5472A14F2}" type="slidenum">
              <a:t>40</a:t>
            </a:fld>
          </a:p>
        </p:txBody>
      </p:sp>
    </p:spTree>
  </p:cSld>
  <p:transition spd="med">
    <p:wheel spokes="1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ptimize User Abiliti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all users are alike – some may be more familiar with the system than oth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ledgeable users are sometimes call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ower us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hould provide multiple ways to accomplish a task whenever reason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"wizards" to walk a user through a 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rt cuts for power us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p facilities should be available but not intrus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FB044-7530-4E7F-B772-EE3A69CA8DED}" type="slidenum">
              <a:t>41</a:t>
            </a:fld>
          </a:p>
        </p:txBody>
      </p:sp>
    </p:spTree>
  </p:cSld>
  <p:transition spd="med">
    <p:wheel spokes="1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Be Consisten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stency is important – users get used to things appearing and working in certain w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s should be used consistently to indicate similar types of information or proces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reen layout should be consistent from one part of a system to ano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error messages should appear in consistent lo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9EF91-9714-46EC-BB91-C49794FA4C1F}" type="slidenum">
              <a:t>42</a:t>
            </a:fld>
          </a:p>
        </p:txBody>
      </p:sp>
    </p:spTree>
  </p:cSld>
  <p:transition spd="med">
    <p:wheel spokes="1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Layout Manage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19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ayout manag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n object that determines the way that components are arranged in a contain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several predefined layout managers defined in the Java standard class librar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465800" y="3352680"/>
            <a:ext cx="3418200" cy="1600200"/>
            <a:chOff x="4465800" y="3352680"/>
            <a:chExt cx="3418200" cy="1600200"/>
          </a:xfrm>
        </p:grpSpPr>
        <p:sp>
          <p:nvSpPr>
            <p:cNvPr id="184" name=""/>
            <p:cNvSpPr/>
            <p:nvPr/>
          </p:nvSpPr>
          <p:spPr>
            <a:xfrm>
              <a:off x="4465800" y="3352680"/>
              <a:ext cx="533160" cy="1600200"/>
            </a:xfrm>
            <a:custGeom>
              <a:avLst/>
              <a:gdLst>
                <a:gd name="textAreaLeft" fmla="*/ 0 w 533160"/>
                <a:gd name="textAreaRight" fmla="*/ 192600 w 53316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267880" y="3860640"/>
              <a:ext cx="261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Defined in the AW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465800" y="5105520"/>
            <a:ext cx="3097440" cy="685800"/>
            <a:chOff x="4465800" y="5105520"/>
            <a:chExt cx="3097440" cy="685800"/>
          </a:xfrm>
        </p:grpSpPr>
        <p:sp>
          <p:nvSpPr>
            <p:cNvPr id="187" name=""/>
            <p:cNvSpPr/>
            <p:nvPr/>
          </p:nvSpPr>
          <p:spPr>
            <a:xfrm>
              <a:off x="4465800" y="5105520"/>
              <a:ext cx="533160" cy="685800"/>
            </a:xfrm>
            <a:custGeom>
              <a:avLst/>
              <a:gdLst>
                <a:gd name="textAreaLeft" fmla="*/ 0 w 533160"/>
                <a:gd name="textAreaRight" fmla="*/ 192600 w 5331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244480" y="5183280"/>
              <a:ext cx="231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Defined in Sw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301840" y="3246480"/>
            <a:ext cx="2057400" cy="21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Flow Lay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Border Lay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Card Lay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Grid Lay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GridBag Lay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67640" y="5105520"/>
            <a:ext cx="21132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Box Lay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Unicode MS"/>
              </a:rPr>
              <a:t>Overlay Lay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640C7-361F-4F67-B25C-62C425300BD2}" type="slidenum">
              <a:t>43</a:t>
            </a:fld>
          </a:p>
        </p:txBody>
      </p:sp>
    </p:spTree>
  </p:cSld>
  <p:transition spd="med">
    <p:wheel spokes="1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Layout Manage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container has a default layout manager, but we can explicitly set the layout manager as we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layout manager has its own particular rules governing how the components will be arrang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layout managers pay attention to a component's preferred size or alignment, while others do n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ayout manager attempts to adjust the layout as components are added and as containers are resiz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E3FC3-CC0F-46CB-9ED4-044B0D66D0B4}" type="slidenum">
              <a:t>44</a:t>
            </a:fld>
          </a:p>
        </p:txBody>
      </p:sp>
    </p:spTree>
  </p:cSld>
  <p:transition spd="med">
    <p:wheel spokes="1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Layout Manage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an use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tLayou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of a container to change its layout mana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Panel panel = new JPanel(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.setLayout(new BorderLayout()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example uses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abbed pa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 container which permits one of several panes to be selec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LayoutDemo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340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IntroPanel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34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44D51-E7B9-4D5A-A8A6-38CACEFA074A}" type="slidenum">
              <a:t>45</a:t>
            </a:fld>
          </a:p>
        </p:txBody>
      </p:sp>
    </p:spTree>
  </p:cSld>
  <p:transition spd="med">
    <p:wheel spokes="1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Flow Layou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low layou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uts as many components as possible on a row, then moves to the next r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ws are created as needed to accommodate all of the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s are displayed in the order they are added to the contain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row of components is centered horizontally in the window by default, but could also be aligned left or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so, the horizontal and vertical gaps between the components can be explicitly s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FlowPanel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34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87307-9918-477A-BAA4-1523F2BCECAC}" type="slidenum">
              <a:t>46</a:t>
            </a:fld>
          </a:p>
        </p:txBody>
      </p:sp>
    </p:spTree>
  </p:cSld>
  <p:transition spd="med">
    <p:wheel spokes="1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Border Layou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order layou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fines five areas into which components can be ad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362320" y="2590920"/>
            <a:ext cx="4724280" cy="2514600"/>
            <a:chOff x="2362320" y="2590920"/>
            <a:chExt cx="4724280" cy="2514600"/>
          </a:xfrm>
        </p:grpSpPr>
        <p:sp>
          <p:nvSpPr>
            <p:cNvPr id="200" name=""/>
            <p:cNvSpPr/>
            <p:nvPr/>
          </p:nvSpPr>
          <p:spPr>
            <a:xfrm>
              <a:off x="2362320" y="2590920"/>
              <a:ext cx="4724280" cy="251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22440" y="2646360"/>
              <a:ext cx="4603680" cy="447840"/>
            </a:xfrm>
            <a:prstGeom prst="rect">
              <a:avLst/>
            </a:prstGeom>
            <a:solidFill>
              <a:srgbClr val="f5e985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or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422440" y="4602240"/>
              <a:ext cx="4603680" cy="447480"/>
            </a:xfrm>
            <a:prstGeom prst="rect">
              <a:avLst/>
            </a:prstGeom>
            <a:solidFill>
              <a:srgbClr val="f5e985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ou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59080" y="3149640"/>
              <a:ext cx="2930760" cy="1396800"/>
            </a:xfrm>
            <a:prstGeom prst="rect">
              <a:avLst/>
            </a:prstGeom>
            <a:solidFill>
              <a:srgbClr val="f5e985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en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49960" y="3149640"/>
              <a:ext cx="776160" cy="1396800"/>
            </a:xfrm>
            <a:prstGeom prst="rect">
              <a:avLst/>
            </a:prstGeom>
            <a:solidFill>
              <a:srgbClr val="f5e985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a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22440" y="3149640"/>
              <a:ext cx="776520" cy="1396800"/>
            </a:xfrm>
            <a:prstGeom prst="rect">
              <a:avLst/>
            </a:prstGeom>
            <a:solidFill>
              <a:srgbClr val="f5e985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E1523-6952-4BA5-AFBD-824B9B4A1883}" type="slidenum">
              <a:t>47</a:t>
            </a:fld>
          </a:p>
        </p:txBody>
      </p:sp>
    </p:spTree>
  </p:cSld>
  <p:transition spd="med">
    <p:wheel spokes="1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Border Layou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area displays one component (which could be a container such as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of the four outer areas enlarges as needed to accommodate the component added to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nothing is added to the outer areas, they take up no space and other areas expand to fill the vo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enter area expands to fill space as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BorderPanel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346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65918-D182-41DB-9B2D-CAAA6ACACAC3}" type="slidenum">
              <a:t>48</a:t>
            </a:fld>
          </a:p>
        </p:txBody>
      </p:sp>
    </p:spTree>
  </p:cSld>
  <p:transition spd="med">
    <p:wheel spokes="1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Grid Layou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rid layou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sents a container’s components in a rectangular grid of rows and colum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component is placed in each cell of the grid, and all cells have the same si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components are added to the container, they fill the grid from left-to-right and top-to-bottom (by defaul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ize of each cell is determined by the overall size of the contain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GridPanel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349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9FA16-8B00-4E61-BAD7-B3B20C88852B}" type="slidenum">
              <a:t>49</a:t>
            </a:fld>
          </a:p>
        </p:txBody>
      </p:sp>
    </p:spTree>
  </p:cSld>
  <p:transition spd="med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GUI Componen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UI compon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n object that represents a screen element such as a button or a text fie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-related classes are defined primarily in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ava.aw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avax.sw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ck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stract Windowing Toolki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WT) was the original Java GUI pack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w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ckage provides additional and more versatile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th packages are needed to create a Java GUI-based pro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0C5D5-C195-4071-AE9A-401BB0019ADC}" type="slidenum">
              <a:t>5</a:t>
            </a:fld>
          </a:p>
        </p:txBody>
      </p:sp>
    </p:spTree>
  </p:cSld>
  <p:transition spd="med">
    <p:wheel spokes="1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Box Layou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360" y="114264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ox layou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ganizes components horizontally (in one row) or vertically (in one colum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s are placed top-to-bottom or left-to-right in the order in which they are added to the contain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combining multiple containers using box layout, many different configurations can be cre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e containers with box layouts are often preferred to one container that uses the more complicated gridbag layout mana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26261-304A-4115-8F4C-FC49D4E7791C}" type="slidenum">
              <a:t>50</a:t>
            </a:fld>
          </a:p>
        </p:txBody>
      </p:sp>
    </p:spTree>
  </p:cSld>
  <p:transition spd="med">
    <p:wheel spokes="1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Box Layou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visible compon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n be added to a box layout container to take up space between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igid area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ve a fixed 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l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pecifies where excess space should g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rigid area is created using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reateRigidAre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o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ue is created using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reateHorizontalGl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reateVerticalGl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BoxPanel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35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DA097-6C30-4738-AD1B-982403B52D13}" type="slidenum">
              <a:t>51</a:t>
            </a:fld>
          </a:p>
        </p:txBody>
      </p:sp>
    </p:spTree>
  </p:cSld>
  <p:transition spd="med">
    <p:wheel spokes="1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Borde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or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n be put around any Swing component to define how the edges of the component should be draw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ders can be used effectively to group components visual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orderFacto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contains several static methods for creating border ob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border is applied to a component using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tBor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22EE1-079B-46A4-832A-4BADF9484B1E}" type="slidenum">
              <a:t>52</a:t>
            </a:fld>
          </a:p>
        </p:txBody>
      </p:sp>
    </p:spTree>
  </p:cSld>
  <p:transition spd="med">
    <p:wheel spokes="1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Borde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mpty bor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ffers the space around the edge of a compon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wise has no visual eff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ine bor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rounds the component with a simple l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ine's color and thickness can be specifi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tched bor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s the effect of an etched groove around a compon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s colors for the highlight and shad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17F3B-EB38-4DC6-B9DF-044F7A33A197}" type="slidenum">
              <a:t>53</a:t>
            </a:fld>
          </a:p>
        </p:txBody>
      </p:sp>
    </p:spTree>
  </p:cSld>
  <p:transition spd="med">
    <p:wheel spokes="1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Borde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vel bor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raised or lowe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s colors for the outer and inner highlights and sha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itled bor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ces a title on or around the bor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itle can be oriented in many w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tte bor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fies the sizes of the top, left, bottom, and right edges of the border separate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s either a solid color or an im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9791A-4F18-4EA2-8F72-1EE9F20FA54E}" type="slidenum">
              <a:t>54</a:t>
            </a:fld>
          </a:p>
        </p:txBody>
      </p:sp>
    </p:spTree>
  </p:cSld>
  <p:transition spd="med">
    <p:wheel spokes="1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Borde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mpound bor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combination of two bord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or both of the borders can be a compound bor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orderDemo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35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C25D4-73A7-4DBB-9945-143DD5B1463D}" type="slidenum">
              <a:t>55</a:t>
            </a:fld>
          </a:p>
        </p:txBody>
      </p:sp>
    </p:spTree>
  </p:cSld>
  <p:transition spd="med">
    <p:wheel spokes="1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Borde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286000" y="2030400"/>
            <a:ext cx="4876920" cy="304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95595-CEFC-41D3-AADF-2672BA5CD876}" type="slidenum">
              <a:t>56</a:t>
            </a:fld>
          </a:p>
        </p:txBody>
      </p:sp>
    </p:spTree>
  </p:cSld>
  <p:transition spd="med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GUI Containe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UI contai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component that is used to hold and organize other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ra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container that is used to display a GUI-based Java app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ame is displayed as a separate window with a title bar – it can be repositioned and resized on the screen as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n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container that cannot be displayed on its own but is used to organize other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anel must be added to another container to be display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7DFA6-C891-4EBB-B1F9-06D376745741}" type="slidenum">
              <a:t>6</a:t>
            </a:fld>
          </a:p>
        </p:txBody>
      </p:sp>
    </p:spTree>
  </p:cSld>
  <p:transition spd="med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GUI Containe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UI container can be classified as either heavyweight or lightwe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eavyweight contai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one that is managed by the underlying operating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ightweight contai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managed by the Java program itsel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casionally this distinction is importa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ame is a heavyweight container and a panel is a lightweight contain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F21D0-F966-41A0-9EC7-B921FE73F155}" type="slidenum">
              <a:t>7</a:t>
            </a:fld>
          </a:p>
        </p:txBody>
      </p:sp>
    </p:spTree>
  </p:cSld>
  <p:transition spd="med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Label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ab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GUI component that displays a line of 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bels are usually used to display information or identify other components in the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's look at a program that organizes two labels in a panel and displays that panel in a fr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Authority.java (page 14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program is not interactive, but the frame can be repositioned and resiz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55802-1352-4331-9783-90A0DDEDB16A}" type="slidenum">
              <a:t>8</a:t>
            </a:fld>
          </a:p>
        </p:txBody>
      </p:sp>
    </p:spTree>
  </p:cSld>
  <p:transition spd="med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Nested Panel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iners that contain other components make up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tainment hierarch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an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hierarchy can be as intricate as needed to create the visual effect desi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example nests two panels inside a third panel – note the effect this has as the frame is resiz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estedPanels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146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7F131-35EF-4E35-9AEC-98FE2E3D6560}" type="slidenum">
              <a:t>9</a:t>
            </a:fld>
          </a:p>
        </p:txBody>
      </p:sp>
    </p:spTree>
  </p:cSld>
  <p:transition spd="med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5:49:24Z</dcterms:created>
  <dc:creator>Copyright 2004 Pearson Addison-Wesley</dc:creator>
  <dc:description/>
  <dc:language>en-US</dc:language>
  <cp:lastModifiedBy>hlee3</cp:lastModifiedBy>
  <dcterms:modified xsi:type="dcterms:W3CDTF">2008-01-17T01:10:29Z</dcterms:modified>
  <cp:revision>48</cp:revision>
  <dc:subject/>
  <dc:title>PowerPoint Presentation</dc:title>
</cp:coreProperties>
</file>