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FAA-4344-4164-84AF-481F49DA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from the bottom item in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D2E-AF27-41EF-A473-2762C78B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955-555B-4756-BA35-84F76528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8F0-BBF7-486C-A5A8-D295D0EE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7A7-719D-4945-91F8-93D7B11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9D7-CE3F-4D38-B623-7A84BED7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CC3-3FBA-4537-9D66-C16D88E9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D6C-5FFB-486F-92B0-3256A2F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22F-9689-4A75-B21D-CBEAFC79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212A-A4AF-4240-90B9-B2B073E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78B3-CCEE-46B2-BCB3-EB63051B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5C2-177D-4C1A-90E9-E57F77F1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383-A1F4-4CA6-A938-9CFCAB6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523-E201-4B1A-AFC3-BF4D8E20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FF7-119A-48CA-A3E7-4D4994F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2B32-6C9B-4559-8E8E-D208377B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011-FEC2-44E7-9A3B-E78024CA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D6C2-FA44-493D-B4C9-1894C890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F5AE-549D-45B8-8F33-1957D10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14A0-E587-460E-81D7-932166E8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6612-E34F-49A4-AC69-4A2DA329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B2D2-6899-42D9-9BB7-9B14CDD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8F10-7EF8-4370-8501-8998989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783B3-7A7D-4B9F-A4E7-5D38C79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7C8-DC14-4C00-B2D9-05C64758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9BB8-B7F1-4ACB-953C-84F37B0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015DD-AA82-4075-A7B8-D0599116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1909-6DC7-40B6-ACAC-87F5DB4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0301-7D87-41BD-A1CC-718A2F1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7D34-F4A0-49A3-9995-C8054DA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53A6-6D65-4CB2-997F-833128E8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D131-B595-4EA6-BF55-B7010495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BBE3-AD34-494D-9B36-5F46F3CD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6C7E-475A-4AAA-A046-8F83933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F6B2-DBD6-4049-BF28-6276571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666-7F14-4F98-AA3E-7224FA8D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1DA3-76E3-4B80-B6DB-BB9295CF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179AB-B059-487E-AC08-A6C2BE57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5D7C-6C47-4068-87F7-D43EC03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F7BC-2D85-4DE5-9561-B0DD809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88DE-133D-4BA2-B1EB-4F7684B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710C-B194-43FE-8502-7F183FC7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1131-DD50-4654-B843-AF6BDD0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CE1C-9392-4A7E-B2F0-B10F5B63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A101-229F-4D9A-89DB-7AB7E281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E9CB-BA1C-4732-9607-87843FC0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1ED-4E41-40E3-9FE0-5829DFE5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6448-FA62-4CD2-BCC1-5A6447B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BBD3-20F1-4A8D-B79F-9FF6A833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C371-D873-45D5-AA61-D6C8B17C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E98C-BB6A-41BB-825F-D81CE161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A3D5-A131-40C6-BA30-2E5B14B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1500-5DAC-477C-A999-E30812C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8712-319A-41A2-A6FC-0278FBB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BBE2-494A-46D6-A92D-2EAEE873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F18C-7892-4CFE-BCE0-5A5FE633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63F4-77DD-42D1-AD5B-3CF36E66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652-0B21-4EC5-BED0-1965ADD7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8CFF-B6DB-441E-9445-5AF8DEE2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6101-64CF-43B0-A87E-C30D582B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8243-8BCD-4865-8901-37760C3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6484-E1DE-44BF-90B5-F42D86ED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C2E8-2A88-4D87-8C5C-C467370D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F707-7C8C-42E3-86DC-FCD2EFFE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9BFF-6E06-4A3B-8454-FF0BF6BF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99937-712F-4D8B-91D4-2DD219E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D49C-4AA2-4C4D-9D23-868D24D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328EF-9317-4560-B43E-23530A7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140-3291-4AFC-B7E7-B869E16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059A4-548E-461E-9E98-41E6CC00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CD0B-0363-4065-85ED-6B9077D0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1035C-5228-4152-AFD3-FB9992CF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D13F-E96C-4019-91C9-71135EAA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CA950-EB3B-449F-ACBD-2AF1019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9663-AB12-424C-9F73-C22D0BD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60934-F2EA-4E2A-B9F4-4B30CE8C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894E-08C1-45F4-BEB7-F3C8618B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6D83-62BC-453D-BC3A-8CE6330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263C-264C-4234-B2BE-04B1185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5B1-9BB2-4E7B-B20F-9242E9C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DE7C-0D11-4367-A7A4-2276FB8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03EF-9A15-4457-AB14-38D734F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9A4F-774C-42D0-A480-FFC45F5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20AA-911F-4E04-BBF4-105DB037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D18E6-7293-46F4-B9F2-DE63ED2F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B513-02CB-47FE-859D-2853416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FDBD0-E885-4CF2-8F33-F13F58B4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88AC-1874-4E9C-8EB2-9834F54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014A8-0BD0-4FD5-8283-9CEC631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1D77-6FC7-4DF9-B934-E239E0D5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D78-03B6-4921-9FF3-95EA265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CA3D-9EB3-4016-B2A4-FF65F1D1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1F74-0F56-4F3F-BF81-DC05390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F06CB-F512-4BFB-8DD4-480C60C3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6584-268F-4338-BE8C-3EAB0B6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9416-0B87-4C98-9EBF-DF089B6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37480-175D-4CCA-983B-828E119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55DC-47B0-4A28-9A64-447EDADA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606-CF85-4D98-B41B-660FAC441CC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712F-4E55-4218-A77A-EE95F649FE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331-CAAC-4F50-B92B-C9EB5D6A0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B56-1EBE-45AC-B1F4-1BA9A2BE876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059-4F22-4528-87E8-8F5D5CB6FF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B124-E74C-4C46-A20D-04A3FF5F137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47C6-3A10-4734-B917-25E749F0B4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835E-036F-4B79-8DA2-F7C1DE607FC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getSuccessor.doc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he%20efficiency%20of%20Binary%20Trees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Java%20code%20of%20BST%20operations.doc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classNode.doc" TargetMode="External"/><Relationship Id="rId3" Type="http://schemas.openxmlformats.org/officeDocument/2006/relationships/hyperlink" Target="file:///find.doc" TargetMode="External"/><Relationship Id="rId4" Type="http://schemas.openxmlformats.org/officeDocument/2006/relationships/hyperlink" Target="file:///insert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Chapter 8 (Lafore’s Book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Binary Tre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Hwajung Le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preorder travers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(in a recursive wa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visit the nod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lef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righ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postorder travers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(in a recursive wa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lef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righ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visit the n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Example: p386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infix notation, prefix notation, postfix not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3"/>
          <p:cNvGraphicFramePr/>
          <p:nvPr/>
        </p:nvGraphicFramePr>
        <p:xfrm>
          <a:off x="2819520" y="1708200"/>
          <a:ext cx="3581280" cy="284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708200"/>
                    <a:ext cx="358128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4"/>
          <p:cNvSpPr/>
          <p:nvPr/>
        </p:nvSpPr>
        <p:spPr>
          <a:xfrm>
            <a:off x="45720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Infix: A*(B+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Prefix: *A+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宋体"/>
              </a:rPr>
              <a:t>Postfix: ABC+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宋体"/>
              </a:rPr>
              <a:t>Deleting a node is the most complicated common operation required for binary search tre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宋体"/>
              </a:rPr>
              <a:t>There are three possible cases when you delete a nod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The node to be deleted is a leaf (had no children)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 eas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The node to be deleted has one child.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 eas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The node to be deleted has two children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굴림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  <a:ea typeface="宋体"/>
              </a:rPr>
              <a:t> quite complic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457200" y="16002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ase 1: The node to be deleted is a leaf (had no children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[How?] Change the appropriate child field in the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s parent to point to nu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Java will automatically collect the garbag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0" y="24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5"/>
          <p:cNvGraphicFramePr/>
          <p:nvPr/>
        </p:nvGraphicFramePr>
        <p:xfrm>
          <a:off x="533520" y="3495600"/>
          <a:ext cx="7391160" cy="22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495600"/>
                    <a:ext cx="739116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6"/>
          <p:cNvSpPr/>
          <p:nvPr/>
        </p:nvSpPr>
        <p:spPr>
          <a:xfrm>
            <a:off x="457200" y="5980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 dele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After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ase 2: The node to be deleted has one chil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[How?] Connect its parent directly to its child. In other words, change the appropriate reference in the parent (leftChild or rightChild) to point to the deleted 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s chil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ase 3: The node to be deleted has two childre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[Definition] Inorder successor: For each node, the node with the next-highest key is called its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inorder successor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, or simply its successo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[How to delete?] Replace the node to be deleted with its inorder successor and then delete it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 fig 8.16 in page 394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宋体"/>
                <a:hlinkClick r:id="rId2"/>
              </a:rPr>
              <a:t>Finding the success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: fig 8.17 in page 39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ase 3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uccessor can be the right child of the delNode: fig 8.18 in page 39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Deletion: fig 8.19 in page 399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Unplug current from the rightChild field of its parent (or leftChild field if appropriate), and set this filed to point to success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Unplug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s left child from current, and plug it into the leftChild field of success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Case 3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uccessor can be a left descendant of the right child of delN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Deletion: fig 8.20 in page 4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90000"/>
              </a:lnSpc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Plug the right child of successor into the leftChild field of the suc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s paren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90000"/>
              </a:lnSpc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Plug the right child of the node to be deleted into the rightChild field of success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90000"/>
              </a:lnSpc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Unplug current from the rightChild field of its parent, and set this field to point to success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lnSpc>
                <a:spcPct val="90000"/>
              </a:lnSpc>
              <a:spcBef>
                <a:spcPts val="60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Unplug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s left child from current, and plug it into the leftChild field of success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2286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ime Complexity of Binary Search Tree: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ea typeface="굴림"/>
                <a:hlinkClick r:id="rId2"/>
              </a:rPr>
              <a:t>O(log 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Tree is a finite set T which satisfies the following conditio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t has one ro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Except the root, nodes are divided into n subsets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  <a:ea typeface="宋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. Each subset is also a tree. Thus, tree is defined recursive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the node array[index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left child = array[2*index + 1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right child = array[2*index + 2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parent = array[(index -1) /2]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fig 8.21 in page 40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Possib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 insert() method in the following tree.java will insert a duplicate key as the right child of its twin. However, it is recommended to forbid duplicate key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ea typeface="宋体"/>
                <a:hlinkClick r:id="rId2"/>
              </a:rPr>
              <a:t>Java code of BST oper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 txBox="1"/>
          <p:nvPr/>
        </p:nvSpPr>
        <p:spPr>
          <a:xfrm>
            <a:off x="457200" y="1599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Discovered by David Huffman in 195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The Huffman code uses a binary tree and is applied to data compress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57200" y="30470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Ex) [Character Codes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me ASCII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990720" y="3505320"/>
          <a:ext cx="6400800" cy="26208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0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101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3"/>
          <p:cNvSpPr/>
          <p:nvPr/>
        </p:nvSpPr>
        <p:spPr>
          <a:xfrm>
            <a:off x="762120" y="1865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equency Table 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447920" y="2286000"/>
          <a:ext cx="6095880" cy="3652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Line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8"/>
          <p:cNvGrpSpPr/>
          <p:nvPr/>
        </p:nvGrpSpPr>
        <p:grpSpPr>
          <a:xfrm>
            <a:off x="1145880" y="1523880"/>
            <a:ext cx="6931440" cy="5105520"/>
            <a:chOff x="1145880" y="1523880"/>
            <a:chExt cx="6931440" cy="5105520"/>
          </a:xfrm>
        </p:grpSpPr>
        <p:sp>
          <p:nvSpPr>
            <p:cNvPr id="583" name="Line 2"/>
            <p:cNvSpPr/>
            <p:nvPr/>
          </p:nvSpPr>
          <p:spPr>
            <a:xfrm flipH="1">
              <a:off x="1955160" y="1989000"/>
              <a:ext cx="2395440" cy="86616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"/>
            <p:cNvSpPr/>
            <p:nvPr/>
          </p:nvSpPr>
          <p:spPr>
            <a:xfrm>
              <a:off x="1955160" y="2855160"/>
              <a:ext cx="2395440" cy="358848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4"/>
            <p:cNvSpPr/>
            <p:nvPr/>
          </p:nvSpPr>
          <p:spPr>
            <a:xfrm flipH="1">
              <a:off x="1422720" y="2917080"/>
              <a:ext cx="532080" cy="74232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5"/>
            <p:cNvSpPr/>
            <p:nvPr/>
          </p:nvSpPr>
          <p:spPr>
            <a:xfrm flipH="1">
              <a:off x="1955160" y="3783240"/>
              <a:ext cx="532080" cy="74232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"/>
            <p:cNvSpPr/>
            <p:nvPr/>
          </p:nvSpPr>
          <p:spPr>
            <a:xfrm flipH="1">
              <a:off x="2554200" y="4587840"/>
              <a:ext cx="532080" cy="74232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7"/>
            <p:cNvSpPr/>
            <p:nvPr/>
          </p:nvSpPr>
          <p:spPr>
            <a:xfrm flipH="1">
              <a:off x="3153240" y="5515920"/>
              <a:ext cx="532080" cy="74232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8"/>
            <p:cNvSpPr/>
            <p:nvPr/>
          </p:nvSpPr>
          <p:spPr>
            <a:xfrm>
              <a:off x="4284360" y="1989000"/>
              <a:ext cx="1463760" cy="86616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"/>
            <p:cNvSpPr/>
            <p:nvPr/>
          </p:nvSpPr>
          <p:spPr>
            <a:xfrm>
              <a:off x="5815080" y="2917080"/>
              <a:ext cx="2062800" cy="247464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0"/>
            <p:cNvSpPr/>
            <p:nvPr/>
          </p:nvSpPr>
          <p:spPr>
            <a:xfrm flipH="1">
              <a:off x="5082840" y="2891520"/>
              <a:ext cx="665280" cy="68040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1"/>
            <p:cNvSpPr/>
            <p:nvPr/>
          </p:nvSpPr>
          <p:spPr>
            <a:xfrm flipH="1">
              <a:off x="5815080" y="3721680"/>
              <a:ext cx="665280" cy="68040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2"/>
            <p:cNvSpPr/>
            <p:nvPr/>
          </p:nvSpPr>
          <p:spPr>
            <a:xfrm flipH="1">
              <a:off x="6522120" y="4525920"/>
              <a:ext cx="665280" cy="680400"/>
            </a:xfrm>
            <a:prstGeom prst="line">
              <a:avLst/>
            </a:prstGeom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3"/>
            <p:cNvSpPr/>
            <p:nvPr/>
          </p:nvSpPr>
          <p:spPr>
            <a:xfrm>
              <a:off x="4084560" y="1741680"/>
              <a:ext cx="465480" cy="494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4"/>
            <p:cNvSpPr/>
            <p:nvPr/>
          </p:nvSpPr>
          <p:spPr>
            <a:xfrm>
              <a:off x="5548680" y="26078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5"/>
            <p:cNvSpPr/>
            <p:nvPr/>
          </p:nvSpPr>
          <p:spPr>
            <a:xfrm>
              <a:off x="1755720" y="26078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6"/>
            <p:cNvSpPr/>
            <p:nvPr/>
          </p:nvSpPr>
          <p:spPr>
            <a:xfrm>
              <a:off x="2287800" y="347400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7"/>
            <p:cNvSpPr/>
            <p:nvPr/>
          </p:nvSpPr>
          <p:spPr>
            <a:xfrm>
              <a:off x="2820240" y="434016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8"/>
            <p:cNvSpPr/>
            <p:nvPr/>
          </p:nvSpPr>
          <p:spPr>
            <a:xfrm>
              <a:off x="3485880" y="52682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9"/>
            <p:cNvSpPr/>
            <p:nvPr/>
          </p:nvSpPr>
          <p:spPr>
            <a:xfrm>
              <a:off x="4084560" y="613476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0"/>
            <p:cNvSpPr/>
            <p:nvPr/>
          </p:nvSpPr>
          <p:spPr>
            <a:xfrm>
              <a:off x="1156680" y="347400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1"/>
            <p:cNvSpPr/>
            <p:nvPr/>
          </p:nvSpPr>
          <p:spPr>
            <a:xfrm>
              <a:off x="1689120" y="434016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22"/>
            <p:cNvSpPr/>
            <p:nvPr/>
          </p:nvSpPr>
          <p:spPr>
            <a:xfrm>
              <a:off x="2287800" y="50828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3"/>
            <p:cNvSpPr/>
            <p:nvPr/>
          </p:nvSpPr>
          <p:spPr>
            <a:xfrm>
              <a:off x="2886840" y="601092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4"/>
            <p:cNvSpPr/>
            <p:nvPr/>
          </p:nvSpPr>
          <p:spPr>
            <a:xfrm>
              <a:off x="4816800" y="335016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5"/>
            <p:cNvSpPr/>
            <p:nvPr/>
          </p:nvSpPr>
          <p:spPr>
            <a:xfrm>
              <a:off x="6280920" y="347400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6"/>
            <p:cNvSpPr/>
            <p:nvPr/>
          </p:nvSpPr>
          <p:spPr>
            <a:xfrm>
              <a:off x="5548680" y="421668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7"/>
            <p:cNvSpPr/>
            <p:nvPr/>
          </p:nvSpPr>
          <p:spPr>
            <a:xfrm>
              <a:off x="6946200" y="42782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8"/>
            <p:cNvSpPr/>
            <p:nvPr/>
          </p:nvSpPr>
          <p:spPr>
            <a:xfrm>
              <a:off x="6214320" y="502092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9"/>
            <p:cNvSpPr/>
            <p:nvPr/>
          </p:nvSpPr>
          <p:spPr>
            <a:xfrm>
              <a:off x="7611840" y="5082840"/>
              <a:ext cx="465480" cy="494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4d4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30"/>
            <p:cNvSpPr/>
            <p:nvPr/>
          </p:nvSpPr>
          <p:spPr>
            <a:xfrm>
              <a:off x="4540320" y="1523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31"/>
            <p:cNvSpPr/>
            <p:nvPr/>
          </p:nvSpPr>
          <p:spPr>
            <a:xfrm>
              <a:off x="2010960" y="232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32"/>
            <p:cNvSpPr/>
            <p:nvPr/>
          </p:nvSpPr>
          <p:spPr>
            <a:xfrm>
              <a:off x="2543040" y="319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3"/>
            <p:cNvSpPr/>
            <p:nvPr/>
          </p:nvSpPr>
          <p:spPr>
            <a:xfrm>
              <a:off x="3075480" y="406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34"/>
            <p:cNvSpPr/>
            <p:nvPr/>
          </p:nvSpPr>
          <p:spPr>
            <a:xfrm>
              <a:off x="3674520" y="498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35"/>
            <p:cNvSpPr/>
            <p:nvPr/>
          </p:nvSpPr>
          <p:spPr>
            <a:xfrm>
              <a:off x="4406400" y="5855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6"/>
            <p:cNvSpPr/>
            <p:nvPr/>
          </p:nvSpPr>
          <p:spPr>
            <a:xfrm>
              <a:off x="1145880" y="319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37"/>
            <p:cNvSpPr/>
            <p:nvPr/>
          </p:nvSpPr>
          <p:spPr>
            <a:xfrm>
              <a:off x="1677960" y="406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38"/>
            <p:cNvSpPr/>
            <p:nvPr/>
          </p:nvSpPr>
          <p:spPr>
            <a:xfrm>
              <a:off x="2343600" y="4803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39"/>
            <p:cNvSpPr/>
            <p:nvPr/>
          </p:nvSpPr>
          <p:spPr>
            <a:xfrm>
              <a:off x="3008880" y="5731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40"/>
            <p:cNvSpPr/>
            <p:nvPr/>
          </p:nvSpPr>
          <p:spPr>
            <a:xfrm>
              <a:off x="5804640" y="2328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41"/>
            <p:cNvSpPr/>
            <p:nvPr/>
          </p:nvSpPr>
          <p:spPr>
            <a:xfrm>
              <a:off x="6535800" y="3194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42"/>
            <p:cNvSpPr/>
            <p:nvPr/>
          </p:nvSpPr>
          <p:spPr>
            <a:xfrm>
              <a:off x="7201440" y="39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43"/>
            <p:cNvSpPr/>
            <p:nvPr/>
          </p:nvSpPr>
          <p:spPr>
            <a:xfrm>
              <a:off x="7667280" y="4741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44"/>
            <p:cNvSpPr/>
            <p:nvPr/>
          </p:nvSpPr>
          <p:spPr>
            <a:xfrm>
              <a:off x="4938840" y="307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45"/>
            <p:cNvSpPr/>
            <p:nvPr/>
          </p:nvSpPr>
          <p:spPr>
            <a:xfrm>
              <a:off x="5670720" y="3936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46"/>
            <p:cNvSpPr/>
            <p:nvPr/>
          </p:nvSpPr>
          <p:spPr>
            <a:xfrm>
              <a:off x="6336360" y="4741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189000" y="268200"/>
            <a:ext cx="85042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676520" y="2225520"/>
          <a:ext cx="5105160" cy="371808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ne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0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Text Box 14"/>
          <p:cNvSpPr/>
          <p:nvPr/>
        </p:nvSpPr>
        <p:spPr>
          <a:xfrm>
            <a:off x="91440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uffman Code: Textbook (pages 416~4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89000"/>
            <a:ext cx="8504280" cy="981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4876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: a basic component which can contain data and references to 0 or more other nodes.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(ex) A~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: the node on the level 0. (ex) 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9" name="Group 4"/>
          <p:cNvGrpSpPr/>
          <p:nvPr/>
        </p:nvGrpSpPr>
        <p:grpSpPr>
          <a:xfrm>
            <a:off x="914400" y="1550880"/>
            <a:ext cx="7010280" cy="3359160"/>
            <a:chOff x="914400" y="1550880"/>
            <a:chExt cx="7010280" cy="3359160"/>
          </a:xfrm>
        </p:grpSpPr>
        <p:sp>
          <p:nvSpPr>
            <p:cNvPr id="360" name="AutoShape 5"/>
            <p:cNvSpPr/>
            <p:nvPr/>
          </p:nvSpPr>
          <p:spPr>
            <a:xfrm>
              <a:off x="914400" y="1550880"/>
              <a:ext cx="7010280" cy="33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 flipH="1">
              <a:off x="3333600" y="185328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 flipH="1">
              <a:off x="2228400" y="257328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 flipH="1">
              <a:off x="1498320" y="344952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356000" y="184284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3177000" y="257328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2228400" y="344952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419360" y="184284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 flipH="1">
              <a:off x="5149440" y="257328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5806080" y="257328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"/>
            <p:cNvSpPr/>
            <p:nvPr/>
          </p:nvSpPr>
          <p:spPr>
            <a:xfrm>
              <a:off x="5784840" y="255204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6"/>
            <p:cNvSpPr/>
            <p:nvPr/>
          </p:nvSpPr>
          <p:spPr>
            <a:xfrm>
              <a:off x="5212800" y="344952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7"/>
            <p:cNvSpPr/>
            <p:nvPr/>
          </p:nvSpPr>
          <p:spPr>
            <a:xfrm>
              <a:off x="4127400" y="155088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8"/>
            <p:cNvSpPr/>
            <p:nvPr/>
          </p:nvSpPr>
          <p:spPr>
            <a:xfrm>
              <a:off x="2958840" y="22809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9"/>
            <p:cNvSpPr/>
            <p:nvPr/>
          </p:nvSpPr>
          <p:spPr>
            <a:xfrm>
              <a:off x="4136400" y="22809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"/>
            <p:cNvSpPr/>
            <p:nvPr/>
          </p:nvSpPr>
          <p:spPr>
            <a:xfrm>
              <a:off x="5587920" y="22809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93644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2"/>
            <p:cNvSpPr/>
            <p:nvPr/>
          </p:nvSpPr>
          <p:spPr>
            <a:xfrm>
              <a:off x="295884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1352160" y="417960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2374560" y="417960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13640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500364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558792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8"/>
            <p:cNvSpPr/>
            <p:nvPr/>
          </p:nvSpPr>
          <p:spPr>
            <a:xfrm>
              <a:off x="6161400" y="315756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9"/>
            <p:cNvSpPr/>
            <p:nvPr/>
          </p:nvSpPr>
          <p:spPr>
            <a:xfrm>
              <a:off x="5003640" y="417960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4159080" y="1582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1"/>
            <p:cNvSpPr/>
            <p:nvPr/>
          </p:nvSpPr>
          <p:spPr>
            <a:xfrm>
              <a:off x="2990520" y="232308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2"/>
            <p:cNvSpPr/>
            <p:nvPr/>
          </p:nvSpPr>
          <p:spPr>
            <a:xfrm>
              <a:off x="1978560" y="318888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3"/>
            <p:cNvSpPr/>
            <p:nvPr/>
          </p:nvSpPr>
          <p:spPr>
            <a:xfrm>
              <a:off x="1383840" y="421128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4"/>
            <p:cNvSpPr/>
            <p:nvPr/>
          </p:nvSpPr>
          <p:spPr>
            <a:xfrm>
              <a:off x="2416680" y="421128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5"/>
            <p:cNvSpPr/>
            <p:nvPr/>
          </p:nvSpPr>
          <p:spPr>
            <a:xfrm>
              <a:off x="2990520" y="318888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6"/>
            <p:cNvSpPr/>
            <p:nvPr/>
          </p:nvSpPr>
          <p:spPr>
            <a:xfrm>
              <a:off x="4169520" y="231264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7"/>
            <p:cNvSpPr/>
            <p:nvPr/>
          </p:nvSpPr>
          <p:spPr>
            <a:xfrm>
              <a:off x="4169520" y="318888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38"/>
            <p:cNvSpPr/>
            <p:nvPr/>
          </p:nvSpPr>
          <p:spPr>
            <a:xfrm>
              <a:off x="5630040" y="231264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9"/>
            <p:cNvSpPr/>
            <p:nvPr/>
          </p:nvSpPr>
          <p:spPr>
            <a:xfrm>
              <a:off x="5034960" y="318888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0"/>
            <p:cNvSpPr/>
            <p:nvPr/>
          </p:nvSpPr>
          <p:spPr>
            <a:xfrm>
              <a:off x="5630040" y="318888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1"/>
            <p:cNvSpPr/>
            <p:nvPr/>
          </p:nvSpPr>
          <p:spPr>
            <a:xfrm>
              <a:off x="6203520" y="318888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2"/>
            <p:cNvSpPr/>
            <p:nvPr/>
          </p:nvSpPr>
          <p:spPr>
            <a:xfrm>
              <a:off x="5034960" y="421128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3"/>
            <p:cNvSpPr/>
            <p:nvPr/>
          </p:nvSpPr>
          <p:spPr>
            <a:xfrm>
              <a:off x="6610320" y="15508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610320" y="228096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5"/>
            <p:cNvSpPr/>
            <p:nvPr/>
          </p:nvSpPr>
          <p:spPr>
            <a:xfrm>
              <a:off x="6610320" y="315756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6"/>
            <p:cNvSpPr/>
            <p:nvPr/>
          </p:nvSpPr>
          <p:spPr>
            <a:xfrm>
              <a:off x="6682320" y="41796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89000" y="189000"/>
            <a:ext cx="8504280" cy="981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49525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: a node and all of its descendents (ex) {B, E, F, K, L}, {E, K, L}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Terminal nod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宋体"/>
              </a:rPr>
              <a:t>): a node of which degree is 0. (ex) F, G, I, J, K, L, 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914400" y="1627200"/>
            <a:ext cx="7010280" cy="3359160"/>
            <a:chOff x="914400" y="1627200"/>
            <a:chExt cx="7010280" cy="3359160"/>
          </a:xfrm>
        </p:grpSpPr>
        <p:sp>
          <p:nvSpPr>
            <p:cNvPr id="405" name="AutoShape 5"/>
            <p:cNvSpPr/>
            <p:nvPr/>
          </p:nvSpPr>
          <p:spPr>
            <a:xfrm>
              <a:off x="914400" y="1627200"/>
              <a:ext cx="7010280" cy="33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>
              <a:off x="3333600" y="19296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H="1">
              <a:off x="2228400" y="26496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8"/>
            <p:cNvSpPr/>
            <p:nvPr/>
          </p:nvSpPr>
          <p:spPr>
            <a:xfrm flipH="1">
              <a:off x="1498320" y="35258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9"/>
            <p:cNvSpPr/>
            <p:nvPr/>
          </p:nvSpPr>
          <p:spPr>
            <a:xfrm>
              <a:off x="4356000" y="19191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"/>
            <p:cNvSpPr/>
            <p:nvPr/>
          </p:nvSpPr>
          <p:spPr>
            <a:xfrm>
              <a:off x="3177000" y="26496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1"/>
            <p:cNvSpPr/>
            <p:nvPr/>
          </p:nvSpPr>
          <p:spPr>
            <a:xfrm>
              <a:off x="2228400" y="35258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2"/>
            <p:cNvSpPr/>
            <p:nvPr/>
          </p:nvSpPr>
          <p:spPr>
            <a:xfrm>
              <a:off x="4419360" y="19191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3"/>
            <p:cNvSpPr/>
            <p:nvPr/>
          </p:nvSpPr>
          <p:spPr>
            <a:xfrm flipH="1">
              <a:off x="5149440" y="26496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4"/>
            <p:cNvSpPr/>
            <p:nvPr/>
          </p:nvSpPr>
          <p:spPr>
            <a:xfrm>
              <a:off x="5806080" y="26496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5"/>
            <p:cNvSpPr/>
            <p:nvPr/>
          </p:nvSpPr>
          <p:spPr>
            <a:xfrm>
              <a:off x="5784840" y="26283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>
              <a:off x="5212800" y="35258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127400" y="16272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295884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413640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558792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9364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9588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13521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23745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4136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50036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7"/>
            <p:cNvSpPr/>
            <p:nvPr/>
          </p:nvSpPr>
          <p:spPr>
            <a:xfrm>
              <a:off x="558792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8"/>
            <p:cNvSpPr/>
            <p:nvPr/>
          </p:nvSpPr>
          <p:spPr>
            <a:xfrm>
              <a:off x="6161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500364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0"/>
            <p:cNvSpPr/>
            <p:nvPr/>
          </p:nvSpPr>
          <p:spPr>
            <a:xfrm>
              <a:off x="4159080" y="16585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1"/>
            <p:cNvSpPr/>
            <p:nvPr/>
          </p:nvSpPr>
          <p:spPr>
            <a:xfrm>
              <a:off x="2990520" y="23994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2"/>
            <p:cNvSpPr/>
            <p:nvPr/>
          </p:nvSpPr>
          <p:spPr>
            <a:xfrm>
              <a:off x="197856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3"/>
            <p:cNvSpPr/>
            <p:nvPr/>
          </p:nvSpPr>
          <p:spPr>
            <a:xfrm>
              <a:off x="1383840" y="4287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4"/>
            <p:cNvSpPr/>
            <p:nvPr/>
          </p:nvSpPr>
          <p:spPr>
            <a:xfrm>
              <a:off x="241668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35"/>
            <p:cNvSpPr/>
            <p:nvPr/>
          </p:nvSpPr>
          <p:spPr>
            <a:xfrm>
              <a:off x="299052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36"/>
            <p:cNvSpPr/>
            <p:nvPr/>
          </p:nvSpPr>
          <p:spPr>
            <a:xfrm>
              <a:off x="4169520" y="23889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37"/>
            <p:cNvSpPr/>
            <p:nvPr/>
          </p:nvSpPr>
          <p:spPr>
            <a:xfrm>
              <a:off x="4169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38"/>
            <p:cNvSpPr/>
            <p:nvPr/>
          </p:nvSpPr>
          <p:spPr>
            <a:xfrm>
              <a:off x="5630040" y="23889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39"/>
            <p:cNvSpPr/>
            <p:nvPr/>
          </p:nvSpPr>
          <p:spPr>
            <a:xfrm>
              <a:off x="503496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0"/>
            <p:cNvSpPr/>
            <p:nvPr/>
          </p:nvSpPr>
          <p:spPr>
            <a:xfrm>
              <a:off x="563004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1"/>
            <p:cNvSpPr/>
            <p:nvPr/>
          </p:nvSpPr>
          <p:spPr>
            <a:xfrm>
              <a:off x="6203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2"/>
            <p:cNvSpPr/>
            <p:nvPr/>
          </p:nvSpPr>
          <p:spPr>
            <a:xfrm>
              <a:off x="503496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3"/>
            <p:cNvSpPr/>
            <p:nvPr/>
          </p:nvSpPr>
          <p:spPr>
            <a:xfrm>
              <a:off x="6610320" y="16272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4"/>
            <p:cNvSpPr/>
            <p:nvPr/>
          </p:nvSpPr>
          <p:spPr>
            <a:xfrm>
              <a:off x="6610320" y="2357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5"/>
            <p:cNvSpPr/>
            <p:nvPr/>
          </p:nvSpPr>
          <p:spPr>
            <a:xfrm>
              <a:off x="6610320" y="32338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6"/>
            <p:cNvSpPr/>
            <p:nvPr/>
          </p:nvSpPr>
          <p:spPr>
            <a:xfrm>
              <a:off x="6682320" y="42559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89000" y="189000"/>
            <a:ext cx="8504280" cy="981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4800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Interior node (or Nonterminal node):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a node of which degree is greater than 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Child/childre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Siblings: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nodes which have the same parent nod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(ex) K and L are siblings. H, I and J are sibling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9" name="Group 4"/>
          <p:cNvGrpSpPr/>
          <p:nvPr/>
        </p:nvGrpSpPr>
        <p:grpSpPr>
          <a:xfrm>
            <a:off x="914400" y="1627200"/>
            <a:ext cx="7010280" cy="3359160"/>
            <a:chOff x="914400" y="1627200"/>
            <a:chExt cx="7010280" cy="3359160"/>
          </a:xfrm>
        </p:grpSpPr>
        <p:sp>
          <p:nvSpPr>
            <p:cNvPr id="450" name="AutoShape 5"/>
            <p:cNvSpPr/>
            <p:nvPr/>
          </p:nvSpPr>
          <p:spPr>
            <a:xfrm>
              <a:off x="914400" y="1627200"/>
              <a:ext cx="7010280" cy="33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6"/>
            <p:cNvSpPr/>
            <p:nvPr/>
          </p:nvSpPr>
          <p:spPr>
            <a:xfrm flipH="1">
              <a:off x="3333600" y="19296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7"/>
            <p:cNvSpPr/>
            <p:nvPr/>
          </p:nvSpPr>
          <p:spPr>
            <a:xfrm flipH="1">
              <a:off x="2228400" y="26496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1498320" y="35258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>
              <a:off x="4356000" y="19191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177000" y="26496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2228400" y="35258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>
              <a:off x="4419360" y="19191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3"/>
            <p:cNvSpPr/>
            <p:nvPr/>
          </p:nvSpPr>
          <p:spPr>
            <a:xfrm flipH="1">
              <a:off x="5149440" y="26496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4"/>
            <p:cNvSpPr/>
            <p:nvPr/>
          </p:nvSpPr>
          <p:spPr>
            <a:xfrm>
              <a:off x="5806080" y="26496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>
              <a:off x="5784840" y="26283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>
              <a:off x="5212800" y="35258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7"/>
            <p:cNvSpPr/>
            <p:nvPr/>
          </p:nvSpPr>
          <p:spPr>
            <a:xfrm>
              <a:off x="4127400" y="16272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8"/>
            <p:cNvSpPr/>
            <p:nvPr/>
          </p:nvSpPr>
          <p:spPr>
            <a:xfrm>
              <a:off x="295884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9"/>
            <p:cNvSpPr/>
            <p:nvPr/>
          </p:nvSpPr>
          <p:spPr>
            <a:xfrm>
              <a:off x="413640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0"/>
            <p:cNvSpPr/>
            <p:nvPr/>
          </p:nvSpPr>
          <p:spPr>
            <a:xfrm>
              <a:off x="558792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19364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29588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3"/>
            <p:cNvSpPr/>
            <p:nvPr/>
          </p:nvSpPr>
          <p:spPr>
            <a:xfrm>
              <a:off x="13521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23745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5"/>
            <p:cNvSpPr/>
            <p:nvPr/>
          </p:nvSpPr>
          <p:spPr>
            <a:xfrm>
              <a:off x="4136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6"/>
            <p:cNvSpPr/>
            <p:nvPr/>
          </p:nvSpPr>
          <p:spPr>
            <a:xfrm>
              <a:off x="50036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7"/>
            <p:cNvSpPr/>
            <p:nvPr/>
          </p:nvSpPr>
          <p:spPr>
            <a:xfrm>
              <a:off x="558792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8"/>
            <p:cNvSpPr/>
            <p:nvPr/>
          </p:nvSpPr>
          <p:spPr>
            <a:xfrm>
              <a:off x="6161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9"/>
            <p:cNvSpPr/>
            <p:nvPr/>
          </p:nvSpPr>
          <p:spPr>
            <a:xfrm>
              <a:off x="500364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0"/>
            <p:cNvSpPr/>
            <p:nvPr/>
          </p:nvSpPr>
          <p:spPr>
            <a:xfrm>
              <a:off x="4159080" y="16585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1"/>
            <p:cNvSpPr/>
            <p:nvPr/>
          </p:nvSpPr>
          <p:spPr>
            <a:xfrm>
              <a:off x="2990520" y="23994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2"/>
            <p:cNvSpPr/>
            <p:nvPr/>
          </p:nvSpPr>
          <p:spPr>
            <a:xfrm>
              <a:off x="197856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3"/>
            <p:cNvSpPr/>
            <p:nvPr/>
          </p:nvSpPr>
          <p:spPr>
            <a:xfrm>
              <a:off x="1383840" y="4287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4"/>
            <p:cNvSpPr/>
            <p:nvPr/>
          </p:nvSpPr>
          <p:spPr>
            <a:xfrm>
              <a:off x="241668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5"/>
            <p:cNvSpPr/>
            <p:nvPr/>
          </p:nvSpPr>
          <p:spPr>
            <a:xfrm>
              <a:off x="299052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6"/>
            <p:cNvSpPr/>
            <p:nvPr/>
          </p:nvSpPr>
          <p:spPr>
            <a:xfrm>
              <a:off x="4169520" y="23889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37"/>
            <p:cNvSpPr/>
            <p:nvPr/>
          </p:nvSpPr>
          <p:spPr>
            <a:xfrm>
              <a:off x="4169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8"/>
            <p:cNvSpPr/>
            <p:nvPr/>
          </p:nvSpPr>
          <p:spPr>
            <a:xfrm>
              <a:off x="5630040" y="23889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39"/>
            <p:cNvSpPr/>
            <p:nvPr/>
          </p:nvSpPr>
          <p:spPr>
            <a:xfrm>
              <a:off x="503496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0"/>
            <p:cNvSpPr/>
            <p:nvPr/>
          </p:nvSpPr>
          <p:spPr>
            <a:xfrm>
              <a:off x="563004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1"/>
            <p:cNvSpPr/>
            <p:nvPr/>
          </p:nvSpPr>
          <p:spPr>
            <a:xfrm>
              <a:off x="6203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503496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6610320" y="16272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44"/>
            <p:cNvSpPr/>
            <p:nvPr/>
          </p:nvSpPr>
          <p:spPr>
            <a:xfrm>
              <a:off x="6610320" y="2357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45"/>
            <p:cNvSpPr/>
            <p:nvPr/>
          </p:nvSpPr>
          <p:spPr>
            <a:xfrm>
              <a:off x="6610320" y="32338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46"/>
            <p:cNvSpPr/>
            <p:nvPr/>
          </p:nvSpPr>
          <p:spPr>
            <a:xfrm>
              <a:off x="6682320" y="42559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89000" y="158760"/>
            <a:ext cx="8504280" cy="944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4800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Ancestors: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 the ancestors of a node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 are all the nodes on the path from the root to the node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. (ex) the ancestors of node L are A, B, E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Descend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Forest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宋体"/>
              </a:rPr>
              <a:t>: a set of separated tre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914400" y="1627200"/>
            <a:ext cx="7010280" cy="3359160"/>
            <a:chOff x="914400" y="1627200"/>
            <a:chExt cx="7010280" cy="3359160"/>
          </a:xfrm>
        </p:grpSpPr>
        <p:sp>
          <p:nvSpPr>
            <p:cNvPr id="495" name="AutoShape 5"/>
            <p:cNvSpPr/>
            <p:nvPr/>
          </p:nvSpPr>
          <p:spPr>
            <a:xfrm>
              <a:off x="914400" y="1627200"/>
              <a:ext cx="7010280" cy="33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 flipH="1">
              <a:off x="3333600" y="1929600"/>
              <a:ext cx="87624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7"/>
            <p:cNvSpPr/>
            <p:nvPr/>
          </p:nvSpPr>
          <p:spPr>
            <a:xfrm flipH="1">
              <a:off x="2228400" y="2649600"/>
              <a:ext cx="8762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8"/>
            <p:cNvSpPr/>
            <p:nvPr/>
          </p:nvSpPr>
          <p:spPr>
            <a:xfrm flipH="1">
              <a:off x="1498320" y="3525840"/>
              <a:ext cx="583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>
              <a:off x="4356000" y="1919160"/>
              <a:ext cx="72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>
              <a:off x="3177000" y="2649600"/>
              <a:ext cx="7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>
              <a:off x="2228400" y="3525840"/>
              <a:ext cx="29196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>
              <a:off x="4419360" y="1919160"/>
              <a:ext cx="131400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3"/>
            <p:cNvSpPr/>
            <p:nvPr/>
          </p:nvSpPr>
          <p:spPr>
            <a:xfrm flipH="1">
              <a:off x="5149440" y="2649600"/>
              <a:ext cx="5839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4"/>
            <p:cNvSpPr/>
            <p:nvPr/>
          </p:nvSpPr>
          <p:spPr>
            <a:xfrm>
              <a:off x="5806080" y="2649600"/>
              <a:ext cx="720" cy="8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5784840" y="2628360"/>
              <a:ext cx="58392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6"/>
            <p:cNvSpPr/>
            <p:nvPr/>
          </p:nvSpPr>
          <p:spPr>
            <a:xfrm>
              <a:off x="5212800" y="3525840"/>
              <a:ext cx="72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17"/>
            <p:cNvSpPr/>
            <p:nvPr/>
          </p:nvSpPr>
          <p:spPr>
            <a:xfrm>
              <a:off x="4127400" y="1627200"/>
              <a:ext cx="437760" cy="43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8"/>
            <p:cNvSpPr/>
            <p:nvPr/>
          </p:nvSpPr>
          <p:spPr>
            <a:xfrm>
              <a:off x="295884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9"/>
            <p:cNvSpPr/>
            <p:nvPr/>
          </p:nvSpPr>
          <p:spPr>
            <a:xfrm>
              <a:off x="413640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0"/>
            <p:cNvSpPr/>
            <p:nvPr/>
          </p:nvSpPr>
          <p:spPr>
            <a:xfrm>
              <a:off x="5587920" y="23572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"/>
            <p:cNvSpPr/>
            <p:nvPr/>
          </p:nvSpPr>
          <p:spPr>
            <a:xfrm>
              <a:off x="19364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2"/>
            <p:cNvSpPr/>
            <p:nvPr/>
          </p:nvSpPr>
          <p:spPr>
            <a:xfrm>
              <a:off x="29588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3"/>
            <p:cNvSpPr/>
            <p:nvPr/>
          </p:nvSpPr>
          <p:spPr>
            <a:xfrm>
              <a:off x="13521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24"/>
            <p:cNvSpPr/>
            <p:nvPr/>
          </p:nvSpPr>
          <p:spPr>
            <a:xfrm>
              <a:off x="237456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25"/>
            <p:cNvSpPr/>
            <p:nvPr/>
          </p:nvSpPr>
          <p:spPr>
            <a:xfrm>
              <a:off x="4136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26"/>
            <p:cNvSpPr/>
            <p:nvPr/>
          </p:nvSpPr>
          <p:spPr>
            <a:xfrm>
              <a:off x="500364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27"/>
            <p:cNvSpPr/>
            <p:nvPr/>
          </p:nvSpPr>
          <p:spPr>
            <a:xfrm>
              <a:off x="558792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28"/>
            <p:cNvSpPr/>
            <p:nvPr/>
          </p:nvSpPr>
          <p:spPr>
            <a:xfrm>
              <a:off x="6161400" y="323388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29"/>
            <p:cNvSpPr/>
            <p:nvPr/>
          </p:nvSpPr>
          <p:spPr>
            <a:xfrm>
              <a:off x="5003640" y="4255920"/>
              <a:ext cx="437760" cy="4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4159080" y="165852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31"/>
            <p:cNvSpPr/>
            <p:nvPr/>
          </p:nvSpPr>
          <p:spPr>
            <a:xfrm>
              <a:off x="2990520" y="23994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197856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33"/>
            <p:cNvSpPr/>
            <p:nvPr/>
          </p:nvSpPr>
          <p:spPr>
            <a:xfrm>
              <a:off x="1383840" y="42876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4"/>
            <p:cNvSpPr/>
            <p:nvPr/>
          </p:nvSpPr>
          <p:spPr>
            <a:xfrm>
              <a:off x="241668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5"/>
            <p:cNvSpPr/>
            <p:nvPr/>
          </p:nvSpPr>
          <p:spPr>
            <a:xfrm>
              <a:off x="299052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4169520" y="238896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37"/>
            <p:cNvSpPr/>
            <p:nvPr/>
          </p:nvSpPr>
          <p:spPr>
            <a:xfrm>
              <a:off x="4169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8"/>
            <p:cNvSpPr/>
            <p:nvPr/>
          </p:nvSpPr>
          <p:spPr>
            <a:xfrm>
              <a:off x="5630040" y="238896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9"/>
            <p:cNvSpPr/>
            <p:nvPr/>
          </p:nvSpPr>
          <p:spPr>
            <a:xfrm>
              <a:off x="503496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40"/>
            <p:cNvSpPr/>
            <p:nvPr/>
          </p:nvSpPr>
          <p:spPr>
            <a:xfrm>
              <a:off x="5630040" y="3265200"/>
              <a:ext cx="437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1"/>
            <p:cNvSpPr/>
            <p:nvPr/>
          </p:nvSpPr>
          <p:spPr>
            <a:xfrm>
              <a:off x="6203520" y="32652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42"/>
            <p:cNvSpPr/>
            <p:nvPr/>
          </p:nvSpPr>
          <p:spPr>
            <a:xfrm>
              <a:off x="5034960" y="4287600"/>
              <a:ext cx="4381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43"/>
            <p:cNvSpPr/>
            <p:nvPr/>
          </p:nvSpPr>
          <p:spPr>
            <a:xfrm>
              <a:off x="6610320" y="162720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4"/>
            <p:cNvSpPr/>
            <p:nvPr/>
          </p:nvSpPr>
          <p:spPr>
            <a:xfrm>
              <a:off x="6610320" y="23572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45"/>
            <p:cNvSpPr/>
            <p:nvPr/>
          </p:nvSpPr>
          <p:spPr>
            <a:xfrm>
              <a:off x="6610320" y="323388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46"/>
            <p:cNvSpPr/>
            <p:nvPr/>
          </p:nvSpPr>
          <p:spPr>
            <a:xfrm>
              <a:off x="6682320" y="4255920"/>
              <a:ext cx="11682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Lev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If every node in a tree can have at most two children, the tree is called a binary tre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Te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Left 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Right 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A binary tree in which every node is greater than its left child and less than its right child, if the left and/or right child exis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宋体"/>
                <a:hlinkClick r:id="rId2"/>
              </a:rPr>
              <a:t>class N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BST oper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宋体"/>
                <a:hlinkClick r:id="rId3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: p378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宋体"/>
                <a:hlinkClick r:id="rId4"/>
              </a:rPr>
              <a:t>insert (or add)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: always add new leaf. p38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traver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min and max in tree (or subtre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inorder traversa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(in a recursive wa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lef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visit the no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call itself to traverse the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宋体"/>
              </a:rPr>
              <a:t>s right subtr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wajung</cp:lastModifiedBy>
  <dcterms:modified xsi:type="dcterms:W3CDTF">2014-04-25T14:57:41Z</dcterms:modified>
  <cp:revision>103</cp:revision>
  <dc:subject/>
  <dc:title>Object-Oriented Design &amp; Patterns Cay S. Horstmann   Chapter 2 The Object-Oriented Design Process </dc:title>
</cp:coreProperties>
</file>