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036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4A98-90A8-44A9-949C-9DDB4441F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99AB-390B-47B3-8C1E-C7DBA2A3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DB8A-6433-4D0A-BB37-043E61056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AD7F-B348-4168-9C60-7F36B903F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DC19-5C60-42F8-A9B2-AB0EF223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D8D2-9DFD-4DCE-8E8D-2C53A353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C7B0-C2A2-40F5-95F9-3A1B98A5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DE0A-8E6F-4494-A788-8CB9FFC8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DE9D-CFC1-4EB4-9763-75BFE49D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6C0E-5E47-40C9-8892-96CCA782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59C7-0397-412B-A227-4C1EDAD7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E1DF-7E3C-4BE2-9FBC-39AC12BF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7FA9-D69A-460E-9237-4172F4A28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removal.doc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rickle%20Down.doc" TargetMode="External"/><Relationship Id="rId2" Type="http://schemas.openxmlformats.org/officeDocument/2006/relationships/hyperlink" Target="file:///Trickle%20Down.doc" TargetMode="External"/><Relationship Id="rId3" Type="http://schemas.openxmlformats.org/officeDocument/2006/relationships/hyperlink" Target="file:///Trickle%20UP.doc" TargetMode="External"/><Relationship Id="rId4" Type="http://schemas.openxmlformats.org/officeDocument/2006/relationships/hyperlink" Target="file:///Trickle%20UP.doc" TargetMode="External"/><Relationship Id="rId5" Type="http://schemas.openxmlformats.org/officeDocument/2006/relationships/hyperlink" Target="file:///Key%20Change.doc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insert.doc" TargetMode="External"/><Relationship Id="rId2" Type="http://schemas.openxmlformats.org/officeDocument/2006/relationships/hyperlink" Target="file:///insert.doc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heapify.doc" TargetMode="External"/><Relationship Id="rId2" Type="http://schemas.openxmlformats.org/officeDocument/2006/relationships/hyperlink" Target="file:///heapify.doc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586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Heaps</a:t>
            </a:r>
            <a:br>
              <a:rPr sz="4400"/>
            </a:br>
            <a:br>
              <a:rPr sz="44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굴림"/>
              </a:rPr>
              <a:t>ITEC224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굴림"/>
              </a:rPr>
              <a:t>Hwajung L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He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 heap is a binary tree with these characterist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t’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mpl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 This means it’s completely filled in, reading from left to right across each row, although the last row need not be full. (Example) fig12.1 in the page 5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ach node in a heap satisfies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eap cond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which states that every node’s key is larger than (or equal to) the keys of its descendants. (Example) fig12.2 in the page 5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Heap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mo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move the r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ve the last node into the r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rick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(the term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bb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ercol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are also used) the last node down until it’s below a larger node and above a smaller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Se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굴림"/>
                <a:hlinkClick r:id="rId1"/>
              </a:rPr>
              <a:t>Remov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Basic Operations &amp; Key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Basic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Se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Trickle Dow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굴림"/>
                <a:hlinkClick r:id="rId2"/>
              </a:rPr>
              <a:t>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Se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Trickle U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굴림"/>
                <a:hlinkClick r:id="rId4"/>
              </a:rPr>
              <a:t>p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Se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굴림"/>
                <a:hlinkClick r:id="rId5"/>
              </a:rPr>
              <a:t>Key Chang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Inser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he node to be inserted is placed in the first open position at the end of the ar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rickle the inserted node up until it’s below a larger node and above a smaller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Se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굴림"/>
                <a:hlinkClick r:id="rId1"/>
              </a:rPr>
              <a:t>I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굴림"/>
                <a:hlinkClick r:id="rId2"/>
              </a:rPr>
              <a:t>nsert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Heapsor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[Basic Idea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sert all the unordered items into a heap using the normal insert() rout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peated application of the remove() routine will then remove the items in sorted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for (j = 0; j &lt; size; j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theHeap.insert(anArray[j])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//from unsorted arr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for (j = 0; j &lt; size; j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anArray[j] = theHeap.remove()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// to sorted arr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fficiency of the heap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xpected case: O(N*log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orst case: O(N*log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f. Quick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xpected case: O(N*log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orst cas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Recursive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[Recursive Approach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Observation: Two correct subheaps make a correct hea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Example) fig12.8 in the page 6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Se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굴림"/>
                <a:hlinkClick r:id="rId1"/>
              </a:rPr>
              <a:t>Heapify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굴림"/>
                <a:hlinkClick r:id="rId2"/>
              </a:rPr>
              <a:t>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form array into he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7T12:20:34Z</dcterms:created>
  <dc:creator> </dc:creator>
  <dc:description/>
  <dc:language>en-US</dc:language>
  <cp:lastModifiedBy>hlee3</cp:lastModifiedBy>
  <dcterms:modified xsi:type="dcterms:W3CDTF">2004-12-01T19:54:55Z</dcterms:modified>
  <cp:revision>240</cp:revision>
  <dc:subject/>
  <dc:title>Chapter 6 Inheritance and Abstract Classes</dc:title>
</cp:coreProperties>
</file>