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146-93B9-420A-AE3C-888FF666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BAE-CD87-4996-B20E-F63CA1B4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7EE-ADF9-4C15-9FE1-82F8A09E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558-E18B-49CC-83A8-D3B4A689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60AB-3ACD-46C4-A34C-27A68F17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F354-0172-47CF-B5B2-4219CBF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0361-F01A-43E4-9741-F25B8AA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6798-40B9-4A29-B4F9-0E58506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227-A9C2-4F3C-BBDE-537A2DE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92E-AB62-48D5-BFF4-B7DC230A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595-9EFC-43EC-AE86-77780E1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0CE-4710-46E8-B2A4-3DB11732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A62-6AD2-43DE-8D3A-844839A7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3FEF-74B4-4A2F-98FB-046115C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6F7C-69B2-4CEE-9BA1-F23E185D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194-D5E2-497A-A18B-509CFDB2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255-45D8-425E-A723-CD7EDE48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219-D91D-4BA5-B518-088B0D4B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969-8F6C-44D3-BAC6-E3A36770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9F7-E055-4173-98BB-D245B5A3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969-E1AC-4479-A9FB-46AA8E03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EC1-2B6E-4B97-A9D5-17266CCF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55C-FC97-4AE2-AAD3-CE99264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21A-594D-4379-B23C-F981D21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8A1-B84C-4565-98C0-F771AD922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259-5158-4715-B59B-B581DE081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ITEC324 Principle of CS III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apter 12 (Lafore’s Bo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sh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wajung 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宋体"/>
              </a:rPr>
              <a:t>Open Addressing: Quadratic Probing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 quadratic probing, probes go to x+1, x+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, x+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, x+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宋体"/>
              </a:rPr>
              <a:t>Open Addressing: Doubling Hashing (1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: To eliminate secondary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two hash fun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ondary hash function mu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ot be the same as the primary hash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ver output a 0 (otherwise, there would be no step; every probe would land on the same cell, and the algorithm would go into an endless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宋体"/>
              </a:rPr>
              <a:t>Open Addressing: Doubling Hashing (2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hash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dex = key % array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condary hash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epSize = constant – (key % const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te: Double hashing requires that the size of the hash table is a prime number. 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굴림"/>
              </a:rPr>
              <a:t>Separate Chaining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uplicates: allowed. But might lower th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letion: no special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able Size: not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uckets vs. Link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Motivation: Fast Table Lookup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Hash tabl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ata structure designed for fast tabl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llows add, find, and delete in O(1) expected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ain idea: store key and value in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se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hash function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alled h, to convert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into an arra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dex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tore element with key = k at array index = h(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ey by itself probably too large to use as an index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ssn, credit card num, na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Example Hash Table</a:t>
            </a: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굴림"/>
              </a:rPr>
              <a:t> (1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Store positive integers in a ta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d performance: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ations should be O(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integer to the 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if an integer is in the 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 an integer from the 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Example Hash Table</a:t>
            </a: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굴림"/>
              </a:rPr>
              <a:t> (2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of size M = 1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elements initialized to 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 integer k at location k mod 1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obviously work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(3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(2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(3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(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(2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ete(2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Collisions</a:t>
            </a: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굴림"/>
              </a:rPr>
              <a:t> (1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f different keys are hashed to the same indexes, we call 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olli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s cause proble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ision occurs i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(k1) = h(k2) and (k1 ≠ k2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Collisions</a:t>
            </a: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굴림"/>
              </a:rPr>
              <a:t> (2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[Solution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pen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Linear Prob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Quadratic Prob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ouble 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eparate Ch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宋体"/>
              </a:rPr>
              <a:t>Open Addressing: Linear Probing (1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filled sequence: a sequence of filled ce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in a hash t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filling a continuous sequence. Fig 11.6 in page 5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It’s critical when designing a hash table to ensure that it never becomes more than half or at the most two-thirds ful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ind: page 5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robe: the process of finding an appropriate cell following a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宋体"/>
              </a:rPr>
              <a:t>Open Addressing: Linear Probing (2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sert: page 53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robe length: the number of steps they take to insert a ke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lete: page 53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elete isn’t accomplished by simply removing a data item from a cell because we will have a problem to find a ke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Use a special key or 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  <a:ea typeface="宋体"/>
              </a:rPr>
              <a:t>Open Addressing: Linear Probing (3)</a:t>
            </a:r>
            <a:endParaRPr b="0" lang="en-US" sz="3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uplicates Allow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earching all the same keys wastes time. Thus, in the majority of cases, duplicated key is not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lee3</cp:lastModifiedBy>
  <dcterms:modified xsi:type="dcterms:W3CDTF">2008-12-01T20:59:01Z</dcterms:modified>
  <cp:revision>98</cp:revision>
  <dc:subject/>
  <dc:title>Object-Oriented Design &amp; Patterns Cay S. Horstmann   Chapter 2 The Object-Oriented Design Process </dc:title>
</cp:coreProperties>
</file>