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D9D-FE84-4D38-A1E4-7B23F852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0DD-8088-43B2-8C75-EF26E43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D7B-048D-44C5-98AF-0ECE3A97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F93-FEA1-4EFD-A8D3-348F2595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B39-E364-4F6E-B253-8B0D4895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8F5-8315-4538-B1CD-DD730DC1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EAFD-511C-4697-B9D7-5B3E123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C19D-A612-41F6-A02F-A1C73FE3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240-C1AF-4618-A7EC-9364C7B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3369-C175-4465-BC82-1108A500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99B6-869E-4440-BEC3-63C6807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F3-4CED-423E-A5FE-81B8046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4FC-979A-4DE3-9B58-4DEC929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CB04-73F6-46FD-A077-93F4A72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86AD-F7C8-48C8-966E-9FFA203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BCB-0D25-4220-904F-612CBDFC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6D3-440D-43BB-B894-ECB9E124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92E-2371-4BD0-81CB-45933D2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CD0-5B55-4079-A1F1-415C1A94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412-7D6D-48A8-AC7A-AB89DC39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528-C43F-42B9-BD01-E788EE2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81-D492-4526-A875-A1567FA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3CF-DC99-4B2C-A79F-7EC2090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E22-3099-4425-8BF7-A6CF361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8A5-36F2-474C-AFC4-4D1E705B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56E2-6358-49BD-8E36-51F7F10B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moval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rickle%20Down.doc" TargetMode="External"/><Relationship Id="rId2" Type="http://schemas.openxmlformats.org/officeDocument/2006/relationships/hyperlink" Target="file:///Trickle%20Down.doc" TargetMode="External"/><Relationship Id="rId3" Type="http://schemas.openxmlformats.org/officeDocument/2006/relationships/hyperlink" Target="file:///Trickle%20UP.doc" TargetMode="External"/><Relationship Id="rId4" Type="http://schemas.openxmlformats.org/officeDocument/2006/relationships/hyperlink" Target="file:///Trickle%20UP.doc" TargetMode="External"/><Relationship Id="rId5" Type="http://schemas.openxmlformats.org/officeDocument/2006/relationships/hyperlink" Target="file:///Key%20Change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insert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eapify.doc" TargetMode="External"/><Relationship Id="rId2" Type="http://schemas.openxmlformats.org/officeDocument/2006/relationships/hyperlink" Target="file:///heapify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TEC324 Principle of CS III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pter 11 (Lafore’s Bo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wajung 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Heap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 heap is a binary tree with these characterist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t’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 This means it’s completely filled in, reading from left to right across each row, although the last row need not be full. (Example) fig12.1 in the page 5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ach node in a heap satisfies th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heap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, which states that every node’s key is larger than (or equal to) the keys of its descendants. (Example) fig12.2 in the page 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Heaps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Removal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Remove the ro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ove the last node into the ro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ick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(the term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ubb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ercol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are also used) the last node down until it’s below a larger node and above a smaller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Remov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Basic Operations &amp; Key Chang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sic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1"/>
              </a:rPr>
              <a:t>Trickle Dow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2"/>
              </a:rPr>
              <a:t>n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3"/>
              </a:rPr>
              <a:t>Trickle 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4"/>
              </a:rPr>
              <a:t>p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5"/>
              </a:rPr>
              <a:t>Key Chang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nsertion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 node to be inserted is placed in the first open position at the end of th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ickle the inserted node up until it’s below a larger node and above a smaller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Insert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Heapsort 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[Basic Ide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99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nsert all the unordered items into a heap using the normal insert() rout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99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epeated application of the remove() routine will then remove the items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for (j = 0; j &lt; size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theHeap.insert(anArray[j]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//from unsorted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for (j = 0; j &lt; size; j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nArray[j] = theHeap.remove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// to sorted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Efficiency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fficiency of the heaps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xpected case: O(N*lo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orst case: O(N*lo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f. Quicks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xpected case: O(N*lo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orst ca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Recursive Approach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[Recursive Approach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bservation: Two correct subheaps make a correct hea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Example) fig12.8 in the page 6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Heapif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2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ransform array into he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lee3</cp:lastModifiedBy>
  <dcterms:modified xsi:type="dcterms:W3CDTF">2008-12-01T20:56:00Z</dcterms:modified>
  <cp:revision>96</cp:revision>
  <dc:subject/>
  <dc:title>Object-Oriented Design &amp; Patterns Cay S. Horstmann   Chapter 2 The Object-Oriented Design Process </dc:title>
</cp:coreProperties>
</file>