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56D-EC6C-455F-8B37-D50E780E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06F-52F7-44F1-951E-4B75C84F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5B0-8ABA-400A-9FB8-92C9D767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520-48E5-41B5-9B8F-7B67457C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963-8B1E-4DD0-8307-681D9C62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240-388D-4AD5-B609-FC3C5D72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D17-B938-44AB-A489-6FD4AFF6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A30-97A2-4F4A-8FEC-78A6CD30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CED-B626-4A56-90A4-F5583573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847-D569-4173-BE73-1CAAFF7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DA6-2A74-499A-972E-67A1B81A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5C3-8B8B-48F6-814C-47620D03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5183-3133-4C27-83CC-98AC94DD0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removal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rickle%20Down.doc" TargetMode="External"/><Relationship Id="rId2" Type="http://schemas.openxmlformats.org/officeDocument/2006/relationships/hyperlink" Target="file:///Trickle%20Down.doc" TargetMode="External"/><Relationship Id="rId3" Type="http://schemas.openxmlformats.org/officeDocument/2006/relationships/hyperlink" Target="file:///Trickle%20UP.doc" TargetMode="External"/><Relationship Id="rId4" Type="http://schemas.openxmlformats.org/officeDocument/2006/relationships/hyperlink" Target="file:///Trickle%20UP.doc" TargetMode="External"/><Relationship Id="rId5" Type="http://schemas.openxmlformats.org/officeDocument/2006/relationships/hyperlink" Target="file:///Key%20Change.doc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insert.doc" TargetMode="External"/><Relationship Id="rId2" Type="http://schemas.openxmlformats.org/officeDocument/2006/relationships/hyperlink" Target="file:///insert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eapify.doc" TargetMode="External"/><Relationship Id="rId2" Type="http://schemas.openxmlformats.org/officeDocument/2006/relationships/hyperlink" Target="file:///heapify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eaps</a:t>
            </a:r>
            <a:br>
              <a:rPr sz="4400"/>
            </a:b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ITEC224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Hwajung L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e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 heap is a binary tree with these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t’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This means it’s completely filled in, reading from left to right across each row, although the last row need not be full. (Example) fig12.1 in the page 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ach node in a heap satisfie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ap 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which states that every node’s key is larger than (or equal to) the keys of its descendants. (Example) fig12.2 in the page 5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eap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mo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move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 the last node into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ick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(the te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bb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erco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are also used) the last node down until it’s below a larger node and above a smaller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Remov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Basic Operations &amp; Key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asic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Trickle Dow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Trickle 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4"/>
              </a:rPr>
              <a:t>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5"/>
              </a:rPr>
              <a:t>Key Chang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n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node to be inserted is placed in the first open position at the end of the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ickle the inserted node up until it’s below a larger node and above a smaller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nser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eapso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[Basic Idea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sert all the unordered items into a heap using the normal insert() rout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peated application of the remove() routine will then remove the items in sorted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for (j = 0; j &lt; size; j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Heap.insert(anArray[j]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//from unsorte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for (j = 0; j &lt; size; j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nArray[j] = theHeap.remove(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// to sorte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fficiency of the heap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ected case: O(N*lo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rst case: O(N*lo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f. Quick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ected case: O(N*lo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rst ca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curs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[Recursive Approac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bservation: Two correct subheaps make a correct he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Example) fig12.8 in the page 6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Heapify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form array into 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2:20:34Z</dcterms:created>
  <dc:creator> </dc:creator>
  <dc:description/>
  <dc:language>en-US</dc:language>
  <cp:lastModifiedBy>hlee3</cp:lastModifiedBy>
  <dcterms:modified xsi:type="dcterms:W3CDTF">2004-12-01T19:54:55Z</dcterms:modified>
  <cp:revision>240</cp:revision>
  <dc:subject/>
  <dc:title>Chapter 6 Inheritance and Abstract Classes</dc:title>
</cp:coreProperties>
</file>