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AC8-0FE1-4B99-9497-0406D75C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324-51AE-4AA0-9A46-7F099B52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547-4DB3-4D51-9017-CAB6DFE0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DE6-AB6B-4E5D-8815-CBFFC968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4322-8CBC-46FE-8E7D-9A35AA6C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F51F-6454-45A1-BE6A-B5C2AA07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3EAE-6935-4190-A69E-E1E08301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C9C9-7338-41BB-8FC3-2A0C1675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5886-0C0E-4F24-BEFB-CDED8CC3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E2C1-E48F-4EF7-B797-91E1B567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506B-D56A-412F-819C-583288E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233-49D4-4EF2-A62C-DE254BAD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772D-5C19-4BAE-9E28-9A508084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FDA0-AAAD-4138-B8EC-BDE998CC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4E65-3680-4EEC-9DDD-74B48295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FC86-D69E-4876-9709-B0FAAFBA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095C-D42C-48C5-8501-0E9E105A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7CB-5F88-49D5-9DE9-176E556D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674-36A5-42F1-BA4F-8E502655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E73-37D1-4B82-A775-FF6ED867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939-AAA3-49C9-A28E-99ED5733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095-6577-45C9-889E-8377A111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A9E-370F-4062-A29F-EE706E93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8E3-D134-4975-B77C-37511BEB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CAD1-08AC-4DFB-93F6-1FFD5846E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7F4F-D81E-46F5-8C11-86C09EEAB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ode/Triangle.java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ist.gov/dads/HTML/recursion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code/AnagramApp.java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code/orderedArray.java" TargetMode="External"/><Relationship Id="rId2" Type="http://schemas.openxmlformats.org/officeDocument/2006/relationships/hyperlink" Target="file:///code/BinarySearch.java" TargetMode="External"/><Relationship Id="rId3" Type="http://schemas.openxmlformats.org/officeDocument/2006/relationships/hyperlink" Target="file:///code/BinarySearch.java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workshopApplet/Chap06/MergeSort/MergeSort.html" TargetMode="External"/><Relationship Id="rId2" Type="http://schemas.openxmlformats.org/officeDocument/2006/relationships/hyperlink" Target="file:///code/merge.java" TargetMode="External"/><Relationship Id="rId3" Type="http://schemas.openxmlformats.org/officeDocument/2006/relationships/hyperlink" Target="file:///code/mergeSort.java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ITEC324 Principle of CS III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hapter 6 (Lafore’s Boo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cu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wajung L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Triangular Numbers (3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mplete Recursiv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tri(int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n == 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1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n + tri(n - 1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Triangular Numbers (4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riangular Tr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ach call gets a new, separate copy of the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ample: Trace – int t = tri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V 1 - tri(4): n is 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V 2 - tri(3): n is 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V 3 - tri(2): n is 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 4 - tri(1): n is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add n to 1 = 2 + 1 = 3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return 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add n to 3 = 3 + 3 = 6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return 6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add n to 6 = 4 + 6 = 10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eturn 10 as value of tri(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Characteristics of a Recursive Method 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s some version of the problem directly (ie without calling itself) - this version is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e bas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s some version of the problem recursively (ie by calling itself) - this version is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e 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ursive cal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olves a simpler vers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problem (what does simpler mean in this context?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s solution from recursive call 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olve original proble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am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angula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mbers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ori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, Anagrams, Recursive Binary Search, The Towers of Hanoi, Merges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fficiency of Recursive Methods 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s and return addresses must be stack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variables must be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trace 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tri(int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answer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n == 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 = 1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 = n + tri(n - 1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answer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Helper Function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metimes a recursive routine uses a helper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1"/>
              </a:rPr>
              <a:t>Triangle.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Why We Use Recursive Methods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(cont.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ularly common for algorithms involving recursively defined data structur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list is an empty list or a node followed by a li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binary tree is an empty tree or a node with a left and right (sub)tre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Power of Recursion 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hough recursion makes programming easier, does it make a language more powerful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ther words, are there problems that require recursion to be sol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- recursion and while loops provide equivalent po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with if and loops = languages with if and recu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can be computed with recursion can be computed with loo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can be computed with loops can be computed with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Anagrams (1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bjective: To find all possible permutations of a specified w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inition: (Math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mu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lso called an "arrangement number" or "order," is a rearrangement of the elements of an ordered li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one-to-one correspondence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elf. The number of permutations on a set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s is given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Anagrams (2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[One approach] Assume the word h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et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nagram the rightmo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le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tate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eat these step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Anagrams (3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828800"/>
          <a:ext cx="7696080" cy="5029200"/>
        </p:xfrm>
        <a:graphic>
          <a:graphicData uri="http://schemas.openxmlformats.org/drawingml/2006/table">
            <a:tbl>
              <a:tblPr/>
              <a:tblGrid>
                <a:gridCol w="1006200"/>
                <a:gridCol w="1295640"/>
                <a:gridCol w="1869840"/>
                <a:gridCol w="1798920"/>
                <a:gridCol w="172548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isplay Wor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rst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emaining Lett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c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t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D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ivide and 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C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onquer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(algorithmic technique) 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 algorithmic technique. To solve a problem on an instance of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 instance 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two or more smaller instanc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of these smaller instances i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lved,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olutions are combined to produce a solution for the original instan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Anagrams (4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1"/>
              </a:rPr>
              <a:t>AnagramApp.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Recursive Binary Search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Objective: To find a searchKey in an array a[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1"/>
              </a:rPr>
              <a:t>Non-Recursive Binary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2"/>
              </a:rPr>
              <a:t>Recursiv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3"/>
              </a:rPr>
              <a:t>BinarySearch.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[Q1] What is the performance of the binary search in the big-Oh notation w.r.t. an input siz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[Q2] Prove your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Merge sort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Objective: Given a series of numbers (or objects), decide its sequ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1"/>
              </a:rPr>
              <a:t>Merge Sort Appl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2"/>
              </a:rPr>
              <a:t>merge.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3"/>
              </a:rPr>
              <a:t>mergeSort.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[Q1] What is the performance of the merge sort in the big-Oh notation w.r.t. an input siz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[Q2] Prove your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R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ecursion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(algorithmic technique) 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 algorithmic technique where a function, in order to accomplish a task, calls itself with some part of the task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Structure of R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cursive 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S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olution 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recursive solution involves two major parts or cases, the second part having three componen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se case(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 which the problem is simple enough to be solved directly,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case(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A recursive case has three componen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vi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roblem into one or more simpler or smaller parts of the problem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function (recursively) on each part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b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olutions of the parts into a solution for the probl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Fibonacci number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member of the sequence of numbers such that each number is the sum of the preceding two. The first seven numbers are 1, 1, 2, 3, 5, 8, and 1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mal Defini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th Fibonacci number 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(n) = F(n-1) + F(n-2), where F(1)=1 and F(2)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Factorials (1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finition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actorial  is defined for a positive inte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! = n*(n-1)*…*3*2*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for exampl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4! = 4*3*2*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pecial case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0!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defined to have valu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Factorials (2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rite a recursive method to calculate Factoria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Triangular Numbers (1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ember of the sequence of numbers such that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 term in the series is obtained by add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to the previous term. The first seven numbers are 1, 3, 6, 10, 15, 21, and 2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838680"/>
          <a:ext cx="769644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38680"/>
                    <a:ext cx="769644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Example of Recursi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Triangular Numbers (2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n-recursive program: Program with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tri(int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total =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n &gt;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tal = total + 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= n - 1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tota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6:51:04Z</dcterms:created>
  <dc:creator>hlee3</dc:creator>
  <dc:description/>
  <dc:language>en-US</dc:language>
  <cp:lastModifiedBy>hlee3</cp:lastModifiedBy>
  <dcterms:modified xsi:type="dcterms:W3CDTF">2008-11-03T20:04:12Z</dcterms:modified>
  <cp:revision>91</cp:revision>
  <dc:subject/>
  <dc:title>Object-Oriented Design &amp; Patterns Cay S. Horstmann   Chapter 2 The Object-Oriented Design Process </dc:title>
</cp:coreProperties>
</file>