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C35A-0711-4D22-863C-F8DF890A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DDD0-CD7C-4F2E-AC2E-2FD4D9E4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B02E-0ED2-4201-9D66-3A4DC3AD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E05E-13A5-447B-8D19-256FE4268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52AD-0E90-4DFC-BFB6-83CD274B3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C4E2-0396-4124-AE4D-1FF62DA2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068F-A2B7-4746-86EF-D6696FB6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7690-EE58-404E-8E4F-D40481B0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009B-D67E-4110-91D6-D5C39936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AEB0-6E95-422D-BFB2-DBE44D70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F8E9-DC0A-42ED-A0CD-292AE48A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CFEE-F746-4280-B09D-C105F60C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6DD9-93D0-4F04-B892-82B4901A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20F9-148C-4DE8-8AF6-3B8E4050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ECB4-B12C-4201-99A8-35788350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7C03-0C8C-42E4-B13C-C5410A524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7B7E-232E-4255-AFD5-34580B73E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B588-9FE8-4768-9E93-DACBCDA1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27F9-F520-4DCA-ADE7-7858F451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18B0-9796-4278-A1E9-B836AB02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7156-B8AB-4C2D-9010-0CB36EE9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70C2-1A11-44FE-B961-398B5453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F03D-1D04-409B-A63A-38285C67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E3DC-36BC-4F0B-9FAE-A8EC587B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58CE-5560-49CC-9D33-06198D967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89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B740-2F16-4AA7-8B19-776BAED01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SummarySort.htm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89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굴림"/>
              </a:rPr>
              <a:t>ITEC324 Principle of CS III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hapter 7 (Lafore’s Boo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dvanced S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Hwajung L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굴림"/>
              </a:rPr>
              <a:t>Shellsort (8)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ource Code of Shell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宋体"/>
              </a:rPr>
              <a:t>Shellsort </a:t>
            </a: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굴림"/>
              </a:rPr>
              <a:t>(9)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omputational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o theoretical analysi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Based on experiment, 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宋体"/>
              </a:rPr>
              <a:t>3/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) ~ 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宋体"/>
              </a:rPr>
              <a:t>7/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굴림"/>
              </a:rPr>
              <a:t>Shellsort (10)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Good for medium-sized arrays, perhaps up to a few thousand ite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Much faster than 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) s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Very easy to implement – The code is short and si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Solves a problem of the insertion sort that it requires too many cop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굴림"/>
              </a:rPr>
              <a:t>Shellsort (11)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Not quite as fast as quicksort and other O(N*logN) sorts, so not optimum for very large fi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宋体"/>
              </a:rPr>
              <a:t>Quick Sort </a:t>
            </a: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굴림"/>
              </a:rPr>
              <a:t>(1)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Discovered by C.A.R. Hoare in 196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The most popular sorting algorithm due to its efficienc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Objecti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: To sort a sequence of nu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: Based on partitioning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Efficiency (time complex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)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O(N*log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pplet: Quick Sort1, Quick Sort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宋体"/>
              </a:rPr>
              <a:t>Quick Sort</a:t>
            </a: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굴림"/>
              </a:rPr>
              <a:t> (2)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Partitio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Using partitioning, data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divided into two group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such that all the items with a key value higher than a specified amount are in one group, and all the items with a lower key value are in an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pivot valu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it is the value used to determine into which of the to groups an item is placed.  ( cf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ey valu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: data which need to be sorted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宋体"/>
              </a:rPr>
              <a:t>Quick Sort</a:t>
            </a: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굴림"/>
              </a:rPr>
              <a:t> (3)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artition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宋体"/>
              </a:rPr>
              <a:t>Quick sort in details</a:t>
            </a: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굴림"/>
              </a:rPr>
              <a:t> (4)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宋体"/>
              </a:rPr>
              <a:t>Three basic steps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宋体"/>
              </a:rPr>
              <a:t>: Textbook page 334 fig 7.8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Partition the array or subarray into left(smaller keys) and right (larger keys) grou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call ourselves to sort the left grou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call ourselves to sort the right grou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굴림"/>
              </a:rPr>
              <a:t>Quick sort (5)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宋体"/>
              </a:rPr>
              <a:t>(Problem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If the data is already sorted (or inversely sorted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Degenerates to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宋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)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宋体"/>
              </a:rPr>
              <a:t>(Solution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Median-of-Three Partitio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굴림"/>
              </a:rPr>
              <a:t>Quick sort (6)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304200" y="1873800"/>
            <a:ext cx="86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Before sort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Lef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     cent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     righ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0160" y="2743200"/>
          <a:ext cx="8161560" cy="609480"/>
        </p:xfrm>
        <a:graphic>
          <a:graphicData uri="http://schemas.openxmlformats.org/drawingml/2006/table">
            <a:tbl>
              <a:tblPr/>
              <a:tblGrid>
                <a:gridCol w="741600"/>
                <a:gridCol w="742680"/>
                <a:gridCol w="741600"/>
                <a:gridCol w="741240"/>
                <a:gridCol w="743040"/>
                <a:gridCol w="741240"/>
                <a:gridCol w="743040"/>
                <a:gridCol w="741240"/>
                <a:gridCol w="741600"/>
                <a:gridCol w="742680"/>
                <a:gridCol w="7416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-304920" y="3670560"/>
            <a:ext cx="9077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median is 4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After sort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Lef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           cent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         righ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38080" y="5410080"/>
          <a:ext cx="7932960" cy="547560"/>
        </p:xfrm>
        <a:graphic>
          <a:graphicData uri="http://schemas.openxmlformats.org/drawingml/2006/table">
            <a:tbl>
              <a:tblPr/>
              <a:tblGrid>
                <a:gridCol w="720720"/>
                <a:gridCol w="722520"/>
                <a:gridCol w="720720"/>
                <a:gridCol w="720720"/>
                <a:gridCol w="720720"/>
                <a:gridCol w="722160"/>
                <a:gridCol w="720720"/>
                <a:gridCol w="720720"/>
                <a:gridCol w="720720"/>
                <a:gridCol w="722520"/>
                <a:gridCol w="720720"/>
              </a:tblGrid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굴림"/>
              </a:rPr>
              <a:t>Sorting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Arrange items in a predetermined orde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ahoma"/>
                <a:ea typeface="굴림"/>
                <a:hlinkClick r:id="rId1"/>
              </a:rPr>
              <a:t>SummarySort.do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굴림"/>
              </a:rPr>
              <a:t>Quick sort (7)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263520" y="1935000"/>
            <a:ext cx="8880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In order to use the mechanism of the exist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recQuickSort(), put the median at the rightmost cel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Lef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       cent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   rig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09480" y="3962520"/>
          <a:ext cx="7932600" cy="547560"/>
        </p:xfrm>
        <a:graphic>
          <a:graphicData uri="http://schemas.openxmlformats.org/drawingml/2006/table">
            <a:tbl>
              <a:tblPr/>
              <a:tblGrid>
                <a:gridCol w="720720"/>
                <a:gridCol w="722160"/>
                <a:gridCol w="720720"/>
                <a:gridCol w="720720"/>
                <a:gridCol w="720720"/>
                <a:gridCol w="738360"/>
                <a:gridCol w="704880"/>
                <a:gridCol w="720720"/>
                <a:gridCol w="720720"/>
                <a:gridCol w="722160"/>
                <a:gridCol w="720720"/>
              </a:tblGrid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531720" y="5375160"/>
            <a:ext cx="667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굴림"/>
              </a:rPr>
              <a:t>Source Code of Quicksort version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굴림"/>
              </a:rPr>
              <a:t>Quick sort (8)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  <a:ea typeface="宋体"/>
              </a:rPr>
              <a:t>[Handling Small Partitions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If you use the median-of-three partitioning method, the quicksort algorithm will not work for partitions of three or fewer ite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Cutoff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Cutoff point 3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Cutoff point 9 is recommended by Knuth and considered where the best performance lies. But, it will depend on your computer, operating system, compiler (or interpreter), and so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846000" y="6019920"/>
            <a:ext cx="737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굴림"/>
              </a:rPr>
              <a:t>Revised Source Code of Quicksort version 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宋体"/>
              </a:rPr>
              <a:t>Radix Sort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Radix: a base of a system of nu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lgorithm of Radix S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ime Complexity of Radix Sor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O(K(N+d)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whe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K = the number of digits in ke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N = the number of key values (= the number of inpu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d = the number of rad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宋体"/>
              </a:rPr>
              <a:t>Shellsort </a:t>
            </a: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굴림"/>
              </a:rPr>
              <a:t>(1)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he Shellsort is named for Donard L. Shell, the computer scientist who discovered it in 1959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Objectiv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To sort a sequence of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Method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Based on the insertion sort, but adds a new feature that dramatically improves the insertion sort’s performa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宋体"/>
              </a:rPr>
              <a:t>Shellsort </a:t>
            </a: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굴림"/>
              </a:rPr>
              <a:t>(2)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pplet: ShellS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Diminishing Gap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Also called Interval sequence or gap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Time complexity of Shell sort depends mainly on the interval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Suggested interval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ahoma"/>
                <a:ea typeface="宋体"/>
              </a:rPr>
              <a:t>Shellsort</a:t>
            </a:r>
            <a:r>
              <a:rPr b="0" lang="en-US" sz="4000" spc="-1" strike="noStrike">
                <a:solidFill>
                  <a:srgbClr val="0000ff"/>
                </a:solidFill>
                <a:latin typeface="Tahoma"/>
                <a:ea typeface="굴림"/>
              </a:rPr>
              <a:t> (3)</a:t>
            </a:r>
            <a:r>
              <a:rPr b="0" lang="en-US" sz="40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Tahoma"/>
                <a:ea typeface="宋体"/>
              </a:rPr>
              <a:t>Diminishing Gaps</a:t>
            </a:r>
            <a:endParaRPr b="0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  <a:ea typeface="굴림"/>
              </a:rPr>
              <a:t>(Option 1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N/2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In Shell’s original p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(Advantage) don’t need to calculate the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(Disadvantage) it sometimes degenerates to 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), which is no better than the insertion sor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ahoma"/>
                <a:ea typeface="宋体"/>
              </a:rPr>
              <a:t>Shellsort</a:t>
            </a:r>
            <a:r>
              <a:rPr b="0" lang="en-US" sz="4000" spc="-1" strike="noStrike">
                <a:solidFill>
                  <a:srgbClr val="0000ff"/>
                </a:solidFill>
                <a:latin typeface="Tahoma"/>
                <a:ea typeface="굴림"/>
              </a:rPr>
              <a:t> (4)</a:t>
            </a:r>
            <a:r>
              <a:rPr b="0" lang="en-US" sz="40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Tahoma"/>
                <a:ea typeface="宋体"/>
              </a:rPr>
              <a:t>Diminishing Gaps</a:t>
            </a:r>
            <a:endParaRPr b="0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  <a:ea typeface="굴림"/>
              </a:rPr>
              <a:t>(Option 2)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N/2.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(Advantage) Better than the sequence of N/2 in terms of time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(Disadvantage) Some extra code is needed to ensure that the last value in the sequence is 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ahoma"/>
                <a:ea typeface="宋体"/>
              </a:rPr>
              <a:t>Shellsort</a:t>
            </a:r>
            <a:r>
              <a:rPr b="0" lang="en-US" sz="4000" spc="-1" strike="noStrike">
                <a:solidFill>
                  <a:srgbClr val="0000ff"/>
                </a:solidFill>
                <a:latin typeface="Tahoma"/>
                <a:ea typeface="굴림"/>
              </a:rPr>
              <a:t> (5)</a:t>
            </a:r>
            <a:r>
              <a:rPr b="0" lang="en-US" sz="40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Tahoma"/>
                <a:ea typeface="宋体"/>
              </a:rPr>
              <a:t>Diminishing Gaps</a:t>
            </a:r>
            <a:endParaRPr b="0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  <a:ea typeface="굴림"/>
              </a:rPr>
              <a:t>(Option 3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Interval sequence suggested by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Flam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based on the following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if (h &lt; 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h = 1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h = (5*h – 1)/11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ahoma"/>
                <a:ea typeface="宋体"/>
              </a:rPr>
              <a:t>Shellsort</a:t>
            </a:r>
            <a:r>
              <a:rPr b="0" lang="en-US" sz="4000" spc="-1" strike="noStrike">
                <a:solidFill>
                  <a:srgbClr val="0000ff"/>
                </a:solidFill>
                <a:latin typeface="Tahoma"/>
                <a:ea typeface="굴림"/>
              </a:rPr>
              <a:t> (6)</a:t>
            </a:r>
            <a:r>
              <a:rPr b="0" lang="en-US" sz="40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Tahoma"/>
                <a:ea typeface="宋体"/>
              </a:rPr>
              <a:t>Diminishing Gaps</a:t>
            </a:r>
            <a:endParaRPr b="0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  <a:ea typeface="굴림"/>
              </a:rPr>
              <a:t>(Option 4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Interval sequence suggested by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Knu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based on the following eq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h = h*3 +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nown as the best interval sequence in terms of time complexity until n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ahoma"/>
                <a:ea typeface="宋体"/>
              </a:rPr>
              <a:t>Shellsort</a:t>
            </a:r>
            <a:r>
              <a:rPr b="0" lang="en-US" sz="4000" spc="-1" strike="noStrike">
                <a:solidFill>
                  <a:srgbClr val="0000ff"/>
                </a:solidFill>
                <a:latin typeface="Tahoma"/>
                <a:ea typeface="굴림"/>
              </a:rPr>
              <a:t> (7)</a:t>
            </a:r>
            <a:r>
              <a:rPr b="0" lang="en-US" sz="4000" spc="-1" strike="noStrike">
                <a:solidFill>
                  <a:srgbClr val="0000ff"/>
                </a:solidFill>
                <a:latin typeface="Tahoma"/>
                <a:ea typeface="宋体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Tahoma"/>
                <a:ea typeface="宋体"/>
              </a:rPr>
              <a:t>Diminishing Gaps</a:t>
            </a:r>
            <a:endParaRPr b="0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  <a:ea typeface="굴림"/>
              </a:rPr>
              <a:t>(Option 5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You can try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your own interval sequ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16:51:04Z</dcterms:created>
  <dc:creator>hlee3</dc:creator>
  <dc:description/>
  <dc:language>en-US</dc:language>
  <cp:lastModifiedBy>hlee3</cp:lastModifiedBy>
  <dcterms:modified xsi:type="dcterms:W3CDTF">2008-11-06T20:22:36Z</dcterms:modified>
  <cp:revision>93</cp:revision>
  <dc:subject/>
  <dc:title>Object-Oriented Design &amp; Patterns Cay S. Horstmann   Chapter 2 The Object-Oriented Design Process </dc:title>
</cp:coreProperties>
</file>