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F04-E6AA-4BA2-A413-3112ADDC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6FE-CA82-4C29-8D26-80CF97F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734-C23B-4517-BEC3-C058D4B4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A8E-7353-4D30-BE1A-132B55D4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7087-E67B-4322-B5A9-8F348987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6B58-16A5-4F64-BEA7-42D125FA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8D24-06A3-4EAE-B8A0-6B752865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9ECF-29FE-4B17-A44D-FB43473A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30BF-0B13-4A77-98C8-362D7B8B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C3D9-68AB-4797-8986-62D218F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E5CC-D802-4215-95C8-90E374DA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3E6-ECD4-4743-A59E-648F53AD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B01C-46C6-4CA8-BB05-5EB5D133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1E08-9589-4B2B-8A2C-CDA232D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F439-54ED-4896-96D5-1BEF99DC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EA97-B54F-4418-93D4-05366376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B9AE-F015-4937-901B-723843DE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298-B154-44EB-974C-15E12208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411-7FCE-493A-A5A1-D9FADDC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472-1720-4FF6-B939-136F30F2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7DE-5532-4B44-815A-78084DDB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D60-A82B-4190-94FF-1BB5FAC0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439-2A3F-4C00-87E7-AC67469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754-5EE9-47A6-AC3D-D4BA67B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0FF-C533-403A-A3E2-E71E1364F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9C56-0E8A-4D53-A78E-AE4836B9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getSuccessor.doc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he%20efficiency%20of%20Binary%20Trees.doc" TargetMode="External"/><Relationship Id="rId2" Type="http://schemas.openxmlformats.org/officeDocument/2006/relationships/hyperlink" Target="file:///The%20efficiency%20of%20Binary%20Trees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Java%20code%20of%20BST%20operations.doc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lassNode.doc" TargetMode="External"/><Relationship Id="rId2" Type="http://schemas.openxmlformats.org/officeDocument/2006/relationships/hyperlink" Target="file:///find.doc" TargetMode="External"/><Relationship Id="rId3" Type="http://schemas.openxmlformats.org/officeDocument/2006/relationships/hyperlink" Target="file:///insert.doc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ITEC324 Principle of CS III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apter 8 (Lafore’s Boo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nar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wajung L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Quick Review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Traverse in details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2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preorder travers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in a recursive w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visit the n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itself to traverse the node’s lef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itself to traverse the node’s righ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Traverse in details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3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postorder travers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in a recursive w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itself to traverse the node’s lef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itself to traverse the node’s righ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visit th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Example: p386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infix notation, prefix notation, postfix not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Traverse in details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4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362320" y="2144880"/>
          <a:ext cx="487656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44880"/>
                    <a:ext cx="487656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57200" y="45720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Infix: A*(B+C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Prefix: *A+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Postfix: ABC+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Delete operation in detail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1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leting a node is the most complicated common operation required for binary search tre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re are three possible cases when you delete a n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he node to be deleted is a leaf (had no children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he node to be deleted has one chil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he node to be deleted has two childr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quite compl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Delete operation in detail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2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1: The node to be deleted is a leaf (had no childre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[How?] Change the appropriate child field in the node’s parent to point to nu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ava will automatically collect the garb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33520" y="3495600"/>
          <a:ext cx="7391160" cy="22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95600"/>
                    <a:ext cx="739116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57200" y="5980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 dele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After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Delete operation in detail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3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2: The node to be deleted has one chi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[How?] Connect its parent directly to its child. In other words, change the appropriate reference in the parent (leftChild or rightChild) to point to the deleted node’s chi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Delete operation in detail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4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3: The node to be deleted has two childr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[Definition] Inorder successor: For each node, the node with the next-highest key is called it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inorder succes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, or simply its success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[How to delete?] Replace the node to be deleted with its inorder successor and then delete it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fig 8.16 in page 3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宋体"/>
                <a:hlinkClick r:id="rId1"/>
              </a:rPr>
              <a:t>Finding the su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fig 8.17 in page 3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Delete operation in detail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4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uccessor can be the right child of the delNode: fig 8.18 in page 39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eletion: fig 8.19 in page 3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Unplug current from the rightChild field of its parent (or leftChild field if appropriate), and set this filed to point to success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Unplug current’s left child from current, and plug it into the leftChild field of success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Delete operation in detail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5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uccessor can be a left descendant of the right child of del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eletion: fig 8.20 in page 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lug the right child of successor into the leftChild field of the successor’s par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lug the right child of the node to be deleted into the rightChild field of success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Unplug current from the rightChild field of its parent, and set this field to point to success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Unplug current’s left child from current, and plug it into the leftChild field of success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The efficiency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Binary Search Trees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me Complexity of Binary Search Tre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1"/>
              </a:rPr>
              <a:t>O(lo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굴림"/>
                <a:hlinkClick r:id="rId2"/>
              </a:rPr>
              <a:t>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Tre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ree is a finite set T which satisfies the following cond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 has one 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xcept the root, nodes are divided into n subset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, …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 Each subset is also a tree. Thus, tree is defined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Tahoma"/>
                <a:ea typeface="宋体"/>
              </a:rPr>
              <a:t>Tree Represented as Array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 node array[index]’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left child = array[2*index + 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ight child = array[2*index + 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arent = array[(index -1) /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ig 8.21 in page 4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Duplicate Key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Possible – insert() method in the following tree.java will insert a duplicate key as the right child of its twin. However, it is recommended to forbid duplicate ke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Binary Search Tre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ea typeface="宋体"/>
                <a:hlinkClick r:id="rId1"/>
              </a:rPr>
              <a:t>Java code of BST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The Huffman Code (1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iscovered by David Huffman in 195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he Huffman code uses a binary tree and is applied to data com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30470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Ex) [Character Codes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me ASCII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990720" y="3505320"/>
          <a:ext cx="6400800" cy="31017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0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1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1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1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The Huffman Code (2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8658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equency Table 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47920" y="2286000"/>
          <a:ext cx="6095880" cy="38322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Line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 flipH="1">
            <a:off x="1828800" y="914400"/>
            <a:ext cx="2743200" cy="10666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1981080"/>
            <a:ext cx="2743200" cy="4419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218960" y="205740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828440" y="312408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514240" y="411480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200040" y="525780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914400"/>
            <a:ext cx="1676520" cy="10666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2057400"/>
            <a:ext cx="2361960" cy="304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409720" y="2025720"/>
            <a:ext cx="76212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248520" y="3048120"/>
            <a:ext cx="76176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058160" y="4038480"/>
            <a:ext cx="761760" cy="838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609480"/>
            <a:ext cx="533520" cy="609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167652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167652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274320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3809880"/>
            <a:ext cx="53316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4952880"/>
            <a:ext cx="53352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601992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274320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3809880"/>
            <a:ext cx="53352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724280"/>
            <a:ext cx="53352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5867280"/>
            <a:ext cx="53352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2590920"/>
            <a:ext cx="53316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81680" y="274320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365760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43800" y="3733920"/>
            <a:ext cx="5335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4648320"/>
            <a:ext cx="53316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4724280"/>
            <a:ext cx="53316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6920" y="341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9108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0560" y="239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10400" y="34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962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34280" y="567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360" y="239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10200" y="34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71960" y="437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4080" y="552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34840" y="133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72560" y="239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34680" y="338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68200" y="430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4376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8220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960" y="430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Creating the Huffman Code (3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676520" y="2225520"/>
          <a:ext cx="5105160" cy="441648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ne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91440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uffman Code: Textbook (pages 416~4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Review: Basic term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1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a basic component which can contain data and references to 0 or more other nodes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(ex) A~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the node on the level 0. (ex)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52160" y="1398600"/>
            <a:ext cx="6498360" cy="3108240"/>
            <a:chOff x="1352160" y="1398600"/>
            <a:chExt cx="6498360" cy="3108240"/>
          </a:xfrm>
        </p:grpSpPr>
        <p:sp>
          <p:nvSpPr>
            <p:cNvPr id="89" name=""/>
            <p:cNvSpPr/>
            <p:nvPr/>
          </p:nvSpPr>
          <p:spPr>
            <a:xfrm flipH="1">
              <a:off x="3333600" y="170100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228400" y="242100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498320" y="329724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56000" y="169056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7000" y="242100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28400" y="329724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360" y="169056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149440" y="242100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242100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84840" y="239976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2800" y="329724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27400" y="139860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5884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3640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8792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364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588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521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745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36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36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8792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61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364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59080" y="142992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90520" y="21708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856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83840" y="40590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1668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69520" y="216036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69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0040" y="216036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3496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3004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3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496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0320" y="13986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10320" y="21286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0320" y="30052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82320" y="402732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Review: Basic Terms (2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a node and all of its descendents (ex) {B, E, F, K, L}, {E, K, L}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erminal 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): a node of which degree is 0. (ex) F, G, I, J, K, L,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52160" y="1398600"/>
            <a:ext cx="6498360" cy="3108240"/>
            <a:chOff x="1352160" y="1398600"/>
            <a:chExt cx="6498360" cy="3108240"/>
          </a:xfrm>
        </p:grpSpPr>
        <p:sp>
          <p:nvSpPr>
            <p:cNvPr id="133" name=""/>
            <p:cNvSpPr/>
            <p:nvPr/>
          </p:nvSpPr>
          <p:spPr>
            <a:xfrm flipH="1">
              <a:off x="3333600" y="170100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28400" y="242100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498320" y="329724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56000" y="169056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77000" y="242100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28400" y="329724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360" y="169056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49440" y="242100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06080" y="242100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4840" y="239976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12800" y="329724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7400" y="139860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5884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3640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792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364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588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521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745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36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036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8792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61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64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59080" y="142992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90520" y="21708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856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83840" y="40590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1668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9052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69520" y="216036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69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30040" y="216036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496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3004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3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3496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10320" y="13986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10320" y="21286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0320" y="30052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82320" y="402732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Review: Basic term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3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Interior node (or Nonterminal node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node of which degree is greater than 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hild/child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ibling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nodes which have the same parent nod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ex) K and L are siblings. H, I and J are sibl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52160" y="1398600"/>
            <a:ext cx="6498360" cy="3108240"/>
            <a:chOff x="1352160" y="1398600"/>
            <a:chExt cx="6498360" cy="3108240"/>
          </a:xfrm>
        </p:grpSpPr>
        <p:sp>
          <p:nvSpPr>
            <p:cNvPr id="177" name=""/>
            <p:cNvSpPr/>
            <p:nvPr/>
          </p:nvSpPr>
          <p:spPr>
            <a:xfrm flipH="1">
              <a:off x="3333600" y="170100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228400" y="242100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98320" y="329724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6000" y="169056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7000" y="242100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8400" y="329724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360" y="169056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149440" y="242100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6080" y="242100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4840" y="239976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12800" y="329724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27400" y="139860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5884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3640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8792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364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588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521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745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36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036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8792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61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0364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9080" y="142992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90520" y="21708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856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83840" y="40590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668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9052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9520" y="216036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9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0040" y="216036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3496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004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3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3496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10320" y="13986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10320" y="21286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0320" y="30052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2320" y="402732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Review: Basic terms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굴림"/>
              </a:rPr>
              <a:t> (4)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ncestor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the ancestors of a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are all the nodes on the path from the root to the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. (ex) the ancestors of node L are A, B, 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Descend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For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: a set of separated tr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52160" y="1398600"/>
            <a:ext cx="6498360" cy="3108240"/>
            <a:chOff x="1352160" y="1398600"/>
            <a:chExt cx="6498360" cy="3108240"/>
          </a:xfrm>
        </p:grpSpPr>
        <p:sp>
          <p:nvSpPr>
            <p:cNvPr id="221" name=""/>
            <p:cNvSpPr/>
            <p:nvPr/>
          </p:nvSpPr>
          <p:spPr>
            <a:xfrm flipH="1">
              <a:off x="3333600" y="170100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28400" y="242100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498320" y="329724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56000" y="169056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77000" y="242100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28400" y="329724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19360" y="169056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49440" y="242100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6080" y="242100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4840" y="239976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12800" y="329724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27400" y="139860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884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3640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87920" y="21286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364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588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521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7456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36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0364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8792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61400" y="3005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03640" y="40273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080" y="142992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90520" y="21708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7856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83840" y="40590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1668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9052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9520" y="216036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69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30040" y="216036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3496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30040" y="3036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3520" y="3036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34960" y="40590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10320" y="13986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10320" y="21286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10320" y="30052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2320" y="402732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  <a:ea typeface="宋体"/>
              </a:rPr>
              <a:t>Quick Review: Binary Tre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f every node in a tree can have at most two children, the tree is called a binary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Left ch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ight ch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Quick review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Binary Search Tree (BST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 binary tree in which every node is greater than its left child and less than its right child, if the left and/or right child ex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宋体"/>
                <a:hlinkClick r:id="rId1"/>
              </a:rPr>
              <a:t>class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ST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宋体"/>
                <a:hlinkClick r:id="rId2"/>
              </a:rPr>
              <a:t>fi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p3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ea typeface="宋体"/>
                <a:hlinkClick r:id="rId3"/>
              </a:rPr>
              <a:t>insert (or add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: always add new leaf. p3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ra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min and max in tree (or subtre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宋体"/>
              </a:rPr>
              <a:t>Traverse in details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  <a:ea typeface="굴림"/>
              </a:rPr>
              <a:t> (1)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order travers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in a recursive w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itself to traverse the node’s lef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visit th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ll itself to traverse the node’s righ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hlee3</cp:lastModifiedBy>
  <dcterms:modified xsi:type="dcterms:W3CDTF">2008-12-01T14:33:03Z</dcterms:modified>
  <cp:revision>95</cp:revision>
  <dc:subject/>
  <dc:title>Object-Oriented Design &amp; Patterns Cay S. Horstmann   Chapter 2 The Object-Oriented Design Process </dc:title>
</cp:coreProperties>
</file>