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012-067C-468E-9A9D-D79CF550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931-1FCC-4DB1-AF82-FC95FBE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B2BE4-3378-44CD-9437-CDAFFA09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7EFA1-F6A4-463B-9241-EBC79EA3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059B7-C8F4-40E6-B2DF-35ABB0E6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38B6B-A160-40A4-B642-5A66BEEB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7D5BA-BE2F-4296-9341-7A022CC1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9E293-4106-4E1D-A026-34A9767C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36CB8-BF74-44C5-88C5-0832EFF7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2E255-74CE-468D-B78C-75F75C99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D06E9-58F5-4F0A-9E1D-F73AE43C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0B4-6449-49E7-A2A7-3E9887B7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309-B0BD-4675-9444-4538FECD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6F92-0641-4428-B6B5-CC35B4D8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7A3A-8CEB-4F35-9257-C745FBC1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1D69-7CE8-41A2-951B-635976EC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3A4F-114B-460A-AFB9-924B6423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9F04-6075-4D76-8077-7C9640B4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F80A-E055-47FA-B2FC-AC24F20C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D3AA-5762-4F16-8F25-B717BC37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5D5-99B0-4272-9460-91240D97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AD4F-BD24-4F0F-B4BA-F8D9062E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D345-E209-476A-9320-6FD0335C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C0A1-701D-429E-8586-16C60BF9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D889-6743-486F-8E5A-A324F4C7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6576-DDBB-4556-AB6C-6ABD4B65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2557-BE77-40CE-8CB5-AA64D5C1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2AC5-AF43-423E-A33D-CAEBF276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3813-4FF7-4A49-A4BA-2DE2FA53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9E06-434A-456F-A051-FB7F713C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FC67-E1E0-4470-89AF-92722390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F5E-82C3-42CE-B7E6-06C858C1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2383-9AE5-4415-8B9C-18A1F544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1E57-2A99-47D9-A5C9-0135839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27DB-E4A7-4BB7-8D7D-534CCB95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9772-B71D-4F5C-974C-5E681FC0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9C34-8609-428D-BA67-1DDCC60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F1EF-94C8-4E50-A033-4B10D859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C51A-FF2E-463E-951D-FC162236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2040-FF4E-486C-8590-E7452461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502D6-04D5-4E26-827F-1F6EDC1E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B2F5-58B7-473F-8C8B-A27CA8BF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278-C111-4F49-9D5B-EE586CBD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610F-8073-4E68-B4C2-D596E6E5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F56A-9D79-4460-9B65-9E5D178A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9D16-4F0E-47D1-8F16-0DA55CCD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E048-384B-4D71-BEA9-2169FFC5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60A3-9AA8-46B9-8425-5B817AE3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256B3-A5DB-46A4-A1D5-77B9F784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BDFD6-2EE1-4E6F-A9F1-A5EB7712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2A10-DCD9-4B5B-AD90-4C982201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2E39-FF82-42EE-AAC9-7E7566E4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EFFD-6630-41DA-B49D-CBC4BB37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A5E-F091-4BBB-A4A0-4F580FC1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20D4A-34A5-415E-8777-6B82DD4D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A96A-A7C6-4C1A-98FF-0B8B16D5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3E607-10FD-40E7-99FC-56FA4CE4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034D9-2130-4C18-825B-1E6C789E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AA25-EB28-4CA9-B49C-0CB4C29C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6655-1954-428D-BF23-FDDB22C3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6B2C-1AF9-402C-BAA7-E05806EB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89CC3-2689-4A39-8D8B-E85F2BFB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066DF-285F-4879-86DA-0C9DEC16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B0CAE-6681-49AD-A77F-64640C62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6AA-B448-4593-BDD6-AF5C1508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9A969-52D3-46DB-B66A-9D0EA425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52AD6-CEB7-4943-BFF1-2ECE0C01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A86B4-F4F5-456C-BAB2-CB00D123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9564-DBE0-4A49-AF10-1DD1B401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D796A-0F8C-4E08-AD9E-D535227F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08920-EE66-4BDC-AF17-B4360A3A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30268-812D-4E01-8786-F224E9BF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294B5-130E-4442-8F56-751D846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C4235-15AD-40A5-A8F1-4AE2F673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1D819-E8BB-4981-84D4-3D04CF0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79F-9835-46A4-8F50-F513CEC6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FFC78-9A4C-4DD0-98B7-150EBC78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AE386-A41C-405F-B6AB-66371F78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BB4C-B54B-4126-BE2F-47B17A9D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C5CCA-3F16-4A61-BFEB-F410B2A3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D00FF-6195-4F15-802B-26B9C57D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5778-95DC-4ADA-9DF7-58D7F479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5E61C-E31C-4F66-8225-98CF52A3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89C9-6867-46B9-9B0B-FC47700E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E011-7120-4B67-84F5-38061C55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CC546-CE47-428B-9297-7AD35FB3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AD6-1C8E-4661-BF61-1948F1C9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677C2-9907-479A-A493-1387472C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F3C4D-412D-4FAE-B91F-563E0125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A1A55-8569-4180-8106-3059334D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854B2-9A78-4678-BF36-B90C0C9B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DC8CA-9939-429F-8C31-AE017A94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83529-DC89-4586-8189-F9F82111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0B420-CF05-4478-ADCF-3E84C78D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AD49F-44B6-4430-BB0D-231FBFC8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C661C-3361-4549-8D8A-47A8B93B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399BA-B083-45C8-9733-1713FEE4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317-1D99-4392-B16A-BC61E29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54A8F-7EEE-449A-9B57-75183901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9016D-5703-4C1E-9A2A-09EE9A4E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05184-D500-41CA-A2EA-70770CE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E4641-DD00-4F23-8984-4DF856DA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D5B59-ADB2-42AC-A596-8240B059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B75BC-44BA-4770-9A43-26110C2E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015A7-B257-48B3-87EB-971E824E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C8600-17CB-48E1-9A79-EB4B3287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587D7-B3AC-4AFB-98BA-D3B0879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51EC5-894A-4FEA-B8F7-558F63A8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3250-C90E-4A3A-A332-870A0C184DE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B03D-1277-4694-AF5F-94C4BD0907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0BD5-B308-4CED-945A-A370039463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E345-9A96-41BD-805E-A960D4FCAC4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676B-D8F8-41EE-911C-D0F25D8838C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7C00-2E5B-4A12-8AEA-8D2F35A70AA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302A-6D21-4133-958D-640DA7718A0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E271-6E7B-45EF-8291-A59FEAF90A9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67C9-58E2-487E-B760-DC0F35278BD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굴림"/>
              </a:rPr>
              <a:t>Chapter 6 (Lafore’s Book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굴림"/>
              </a:rPr>
              <a:t>Recurs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굴림"/>
              </a:rPr>
              <a:t>Hwajung Le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Complete Recursive Progr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 tri(int 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(n ==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turn 1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l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turn n + tri(n - 1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riangular Tr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Each call gets a new, separate copy of the parame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Example: Tr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int t = tri(4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rbel"/>
              </a:rPr>
              <a:t>V 1 - tr</a:t>
            </a:r>
            <a:r>
              <a:rPr b="0" lang="en-US" sz="2000" spc="-1" strike="noStrike">
                <a:solidFill>
                  <a:srgbClr val="000099"/>
                </a:solidFill>
                <a:latin typeface="Corbel"/>
                <a:ea typeface="굴림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rbel"/>
              </a:rPr>
              <a:t>(4): n is 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Corbel"/>
              </a:rPr>
              <a:t>V 2 - tr</a:t>
            </a:r>
            <a:r>
              <a:rPr b="0" lang="en-US" sz="2000" spc="-1" strike="noStrike">
                <a:solidFill>
                  <a:srgbClr val="336600"/>
                </a:solidFill>
                <a:latin typeface="Corbel"/>
                <a:ea typeface="굴림"/>
              </a:rPr>
              <a:t>i</a:t>
            </a:r>
            <a:r>
              <a:rPr b="0" lang="en-US" sz="2000" spc="-1" strike="noStrike">
                <a:solidFill>
                  <a:srgbClr val="336600"/>
                </a:solidFill>
                <a:latin typeface="Corbel"/>
              </a:rPr>
              <a:t>(3): n is 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168bba"/>
                </a:solidFill>
                <a:latin typeface="Corbel"/>
              </a:rPr>
              <a:t>V 3 - tr</a:t>
            </a:r>
            <a:r>
              <a:rPr b="0" lang="en-US" sz="2000" spc="-1" strike="noStrike">
                <a:solidFill>
                  <a:srgbClr val="168bba"/>
                </a:solidFill>
                <a:latin typeface="Corbel"/>
                <a:ea typeface="굴림"/>
              </a:rPr>
              <a:t>i</a:t>
            </a:r>
            <a:r>
              <a:rPr b="0" lang="en-US" sz="2000" spc="-1" strike="noStrike">
                <a:solidFill>
                  <a:srgbClr val="168bba"/>
                </a:solidFill>
                <a:latin typeface="Corbel"/>
              </a:rPr>
              <a:t>(2): n is 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V 4 - tr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1): n is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turn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168bba"/>
                </a:solidFill>
                <a:latin typeface="Corbel"/>
              </a:rPr>
              <a:t>add n to 1 = 2 + 1 = 3</a:t>
            </a:r>
            <a:br>
              <a:rPr sz="2000"/>
            </a:br>
            <a:r>
              <a:rPr b="0" lang="en-US" sz="2000" spc="-1" strike="noStrike">
                <a:solidFill>
                  <a:srgbClr val="168bba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168bba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168bba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168bba"/>
                </a:solidFill>
                <a:latin typeface="Corbel"/>
              </a:rPr>
              <a:t>return 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Corbel"/>
              </a:rPr>
              <a:t>add n to 3 = 3 + 3 = 6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Corbel"/>
                <a:ea typeface="굴림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Corbel"/>
              </a:rPr>
              <a:t>return 6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rbel"/>
              </a:rPr>
              <a:t>add n to 6 = 4 + 6 = 10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rbel"/>
              </a:rPr>
              <a:t>return 10 as value of tri(4)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73080" y="73080"/>
            <a:ext cx="9077400" cy="11523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andles some version of the problem directly (ie without calling itself) - this version is called 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the base cas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andles some version of the problem recursively (ie by calling itself) - this version is called 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the recursive case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ecursive cal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olves a simpler version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of the problem (what does simpler mean in this context?)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Uses solution from recursive call 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olve original problem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Example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  <a:ea typeface="굴림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iangular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  <a:ea typeface="굴림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umbers,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  <a:ea typeface="굴림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ctorial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  <a:ea typeface="굴림"/>
              </a:rPr>
              <a:t>, Anagrams, Recursive Binary Search, The Towers of Hanoi, Mergesor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4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620200" cy="1262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56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guments and return addresses must be stacke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cal variables must be allocat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sider trace o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t tri(int 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t answer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(n == 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swer = 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swer = n + tri(n - 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turn answer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}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metimes a recursive routine uses a helper fun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riangle.jav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ticularly common for algorithms involving recursively defined data structur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ple: list is an empty list or a node followed by a lis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ple: binary tree is an empty tree or a node with a left and right (sub)tre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hough recursion makes programming easier, does it make a language more powerful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other words, are there problems that require recursion to be solved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- recursion and while loops provide equivalent po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nguages with if and loops = languages with if and recur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ything that can be computed with recursion can be computed with loop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ything that can be computed with loops can be computed with recur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Objective: To find all possible permutations of a specified wor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efinition: (Math)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ermutati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also called an "arrangement number" or "order," is a rearrangement of the elements of an ordered list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nto a one-to-one correspondence with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tself. The number of permutations on a set of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elements is given by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774800"/>
            <a:ext cx="853416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[One approach] Assume the word has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tter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nagram the rightmost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lett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tate all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lett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epeat these steps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i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103320" y="-19080"/>
            <a:ext cx="8589960" cy="139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762120" y="1828800"/>
          <a:ext cx="7696080" cy="4707000"/>
        </p:xfrm>
        <a:graphic>
          <a:graphicData uri="http://schemas.openxmlformats.org/drawingml/2006/table">
            <a:tbl>
              <a:tblPr/>
              <a:tblGrid>
                <a:gridCol w="1006200"/>
                <a:gridCol w="1295640"/>
                <a:gridCol w="1869840"/>
                <a:gridCol w="1798920"/>
                <a:gridCol w="1725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isplay Wor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rst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emaining Lett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c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otate t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n algorithmic technique. To solve a problem on an instance of siz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the instance i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divide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nto two or more smaller instanc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ch of these smaller instances is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recursivel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solved, and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olutions are combined to produce a solution for the original instanc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nagramApp.jav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Objective: To find a searchKey in an array a[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n-Recursive Binary Sear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ecursive BinarySearch.jav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[Q1] What is the performance of the binary search in the big-Oh notation w.r.t. an input size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[Q2] Prove your answ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宋体"/>
              </a:rPr>
              <a:t>Objective: Given a series of numbers (or objects), decide its seque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Merge Sort Appl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merge.jav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mergeSort.jav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[Q1] What is the performance of the merge sort in the big-Oh notation w.r.t. an input size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[Q2] Prove your answ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n algorithmic technique where a function, in order to accomplish a task, calls itself with some part of the task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very recursive solution involves two major parts or cases, the second part having three component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base case(s)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in which the problem is simple enough to be solved directly, and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recursive case(s)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A recursive case has three components: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divide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the problem into one or more simpler or smaller parts of the problem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the function (recursively) on each part, and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combine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the solutions of the parts into a solution for the problem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304920" y="1774800"/>
            <a:ext cx="86104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 member of the sequence of numbers such that each number is the sum of the preceding two. The first seven numbers are 1, 1, 2, 3, 5, 8, and 13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Formal Definition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nth Fibonacci number i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F(n) = F(n-1) + F(n-2), where F(1)=1 and F(2)=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actorial  is defined for a positive integer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! = n*(n-1)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*3*2*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, 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! = 4*3*2*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pecial case 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0!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s defined to have valu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rite a recursive method to calculate Factorial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808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member of the sequence of numbers such that 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 term in the series is obtained by adding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to the previous term. The first seven numbers are 1, 3, 6, 10, 15, 21, and 28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609480" y="3838680"/>
          <a:ext cx="7694640" cy="27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838680"/>
                    <a:ext cx="769464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n-recursive program: Program with loo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 tri(int 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 total = 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ile (n &gt; 0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tal = total + n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 = n - 1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turn total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6:51:04Z</dcterms:created>
  <dc:creator>hlee3</dc:creator>
  <dc:description/>
  <dc:language>en-US</dc:language>
  <cp:lastModifiedBy>Hwajung Lee</cp:lastModifiedBy>
  <dcterms:modified xsi:type="dcterms:W3CDTF">2011-11-11T19:49:11Z</dcterms:modified>
  <cp:revision>92</cp:revision>
  <dc:subject/>
  <dc:title>Object-Oriented Design &amp; Patterns Cay S. Horstmann   Chapter 2 The Object-Oriented Design Process </dc:title>
</cp:coreProperties>
</file>