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04C-204D-42A4-B72E-FF3DBAED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E9C-FE43-413A-BC23-2939BDB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151-C924-4E07-A931-A2F26914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307-8A7F-4D7B-9014-1E4FB168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AA9-1B17-4688-8276-BC1F9172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1EE3-5972-411C-A93A-1931E9D7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5B8-DD63-4FFF-A68C-E5A8EBB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0AE-B96A-4BA1-81ED-83DA3EDD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48EB-440A-4A32-9338-9A41A90C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3E3-A650-40F9-9E04-139914DF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D86-09C6-40F9-8576-87CD9B2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47D-D6B6-471C-918B-50F5CEE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7B4-4FBC-4778-900B-991AB95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D92-896C-42A1-8CBA-D4598D1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1DD-3B41-4648-BF07-90BB0087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040-C355-49CD-B3F5-7D85F1A0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9F32-1A46-4436-9EF2-651E064E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F4C6-2057-404F-BDDA-471510C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2A1B-B35B-4684-92EC-2C58065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72F1-3C52-4F53-A7DD-5DF0270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EBB8-63ED-420A-95DA-DF24AF56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8D34-9CAA-4EC1-B444-86CD386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A7E-BEF5-468F-88C6-9E1D37A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6455-CFF6-4481-8E79-EF94026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DB2E-AF44-44B9-82D3-974975B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67AE-BE8E-43FC-A5B9-374B260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D7DF-BDA6-43D2-AA0D-35B859C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E457-8CDF-41C9-B75A-37F39581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3B2C-A7C8-4FD3-9D11-50A88A1D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1348-1888-4DF5-A55C-198C3214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9497-487E-4209-A43F-DB4DE5C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052C-1CDC-485C-ADAB-FC18AD8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222E-C275-495E-A209-9E221ED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AAE-2B6A-4D28-9647-ABF10BBC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7D4A-0C70-4059-9B07-1EF28E1B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AC71-6429-4492-A4C0-B6E1A16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AE85-BF39-47AC-AD34-4FAE1989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9222-ACEB-4215-9E4C-73B7892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22DC-9AA8-44DB-9DD6-5240CB98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C6AE-3C33-4B84-83EF-DF81ECA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212D-C417-4BAD-BB11-AAA9BE1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D6A5-3D0F-43AB-994F-B618D17B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F92C-C8BD-49B8-9EC5-344A0C04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1D7A-BE4C-4D6B-98E6-202221ED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621-7E10-4E93-A7FA-EEF25471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4689-8787-464B-9702-CCB07B9A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530A-17F2-4F13-87DF-0A6D6CB1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61DD-14F2-405D-9302-71493B0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0162-83E5-4CDA-B4D0-35B04DD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3EAA-1F9C-41C9-AABF-3AD972C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D2A8-4F6E-4953-B18C-C948D07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9F4F8-5A98-418A-84DE-B5F4094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91E0-3DD2-4F59-AB4E-CD12530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E58F-CAFB-4AED-ACE1-EF2B1E50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612F-9503-46AF-BB59-9BC7AB13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9F3-311F-4B30-937D-2624640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13BC-488B-497D-936F-4D641B0A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039D-79E6-414A-B01D-AA791413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9615-3F4C-417B-B9C5-0E5622C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2FFC6-AA3E-47E7-B5B1-B742914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2B274-9CE3-42C6-9689-8BC730B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A0C5-DC6C-43F1-A439-DD41941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3E2A-836C-41EE-9374-B0FC2A35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7EE2-A2A8-45EA-A0B4-753F3B6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65E3-93F8-4DEF-A6A6-A59435B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A2A98-0560-4D8F-9A7B-21C9522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FE4-3D02-4A8E-A4CE-68A2EA0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D26C-E09C-4B34-A5F5-83FC4970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7D57-FA74-4263-8DF9-A4E43B9E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5D94-7C52-46C5-BB2D-7FEDF9DC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D69A-0E4D-421D-ADC6-0F655207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DD35-BCEB-4CC8-BF4B-D5FEDFE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486BC-65F5-47BD-A76C-618F876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DD0D-9AD5-48D3-9037-2B33324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D65C-3A88-43C0-A1C7-0F556D9E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D203-90F2-4C05-AF0B-943F527A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078D-7BC0-4EC2-B928-443311DA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F5-F1F9-4CEE-9535-D6F7E28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E9F5-98A4-43C3-9990-4B83A93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D9CDD-6A51-4D30-AF86-15899DB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3BC2C-C90E-45F3-902C-F5CE291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7C20-09C7-4D4C-BCBF-D926B283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E1E3-2453-4CD7-9EC9-EDBBC62B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E32-9445-4DA7-B391-E399F1E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D273-134C-401B-B9B5-99A81D585B4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B5EA-B2A6-4D15-BF3F-0AE7EA04AB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B18-B345-4AB8-A3AA-F4145EB07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85E-F18D-474B-8344-1A1E7A21A08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96B-731A-4C32-92C2-D98EBCCD157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564-E41C-4AB5-AD47-3D3877336D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6E8-CEC7-4469-934F-02DD77A36B7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Chapter 7 (Lafore’s Book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Advanced Sor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Hwajung Le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Interval sequence suggested b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Knu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based on the following eq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h = h*3 +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Known as the best interval sequence in terms of time complexity until n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You can tr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your own interval sequenc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urce Code of Shell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utational Perform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o theoretical analysi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Based on experiment,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  <a:ea typeface="宋体"/>
              </a:rPr>
              <a:t>3/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) ~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  <a:ea typeface="宋体"/>
              </a:rPr>
              <a:t>7/6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Good for medium-sized arrays, perhaps up to a few thousand item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Much faster th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) so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Very easy to impl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 The code is short and simp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olves a problem of the insertion sort that it requires too many cop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Not quite as fast as quicksort and other O(N*logN) sorts, so not optimum for very large fi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Discovered by C.A.R. Hoare in 196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The most popular sorting algorithm due to its efficienc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: To sort a sequence of numb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: Based on partitioning da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Efficiency (time complexity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O(N*log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Applet: Quick Sort1, Quick Sort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Using partitioning, data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  <a:ea typeface="宋体"/>
              </a:rPr>
              <a:t>divided into two group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 such that all the items with a key value higher than a specified amount are in one group, and all the items with a lower key value are in anoth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pivot valu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it is the value used to determine into which of the to groups an item is placed.  ( cf.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key valu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: data which need to be sorted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titioning Algorith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Three basic step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: Textbook page 334 fig 7.8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Partition the array or subarray into left(smaller keys) and right (larger keys) group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ourselves to sort the left group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ourselves to sort the right group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Arrange items in a predetermined ord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ummarySort.d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  <a:ea typeface="宋体"/>
              </a:rPr>
              <a:t>(Problem)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If the data is already sorted (or inversely sorted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egenerates to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) Perform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  <a:ea typeface="宋体"/>
              </a:rPr>
              <a:t>(Solution)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Median-of-Three Partitio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304200" y="1873800"/>
            <a:ext cx="86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Before sor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cen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830160" y="2743200"/>
          <a:ext cx="8161560" cy="609480"/>
        </p:xfrm>
        <a:graphic>
          <a:graphicData uri="http://schemas.openxmlformats.org/drawingml/2006/table">
            <a:tbl>
              <a:tblPr/>
              <a:tblGrid>
                <a:gridCol w="741600"/>
                <a:gridCol w="742680"/>
                <a:gridCol w="741600"/>
                <a:gridCol w="741240"/>
                <a:gridCol w="743040"/>
                <a:gridCol w="741240"/>
                <a:gridCol w="743040"/>
                <a:gridCol w="741240"/>
                <a:gridCol w="741600"/>
                <a:gridCol w="742680"/>
                <a:gridCol w="741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30"/>
          <p:cNvSpPr/>
          <p:nvPr/>
        </p:nvSpPr>
        <p:spPr>
          <a:xfrm>
            <a:off x="-304920" y="3670560"/>
            <a:ext cx="90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median is 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After sor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    cen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        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38080" y="5410080"/>
          <a:ext cx="7932960" cy="487440"/>
        </p:xfrm>
        <a:graphic>
          <a:graphicData uri="http://schemas.openxmlformats.org/drawingml/2006/table">
            <a:tbl>
              <a:tblPr/>
              <a:tblGrid>
                <a:gridCol w="720720"/>
                <a:gridCol w="722520"/>
                <a:gridCol w="720720"/>
                <a:gridCol w="720720"/>
                <a:gridCol w="720720"/>
                <a:gridCol w="722160"/>
                <a:gridCol w="720720"/>
                <a:gridCol w="720720"/>
                <a:gridCol w="720720"/>
                <a:gridCol w="722520"/>
                <a:gridCol w="720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263520" y="1935000"/>
            <a:ext cx="888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 order to use the mechanism of the exis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recQuickSort(), put the median at the rightmost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cen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09480" y="3962520"/>
          <a:ext cx="7932960" cy="487080"/>
        </p:xfrm>
        <a:graphic>
          <a:graphicData uri="http://schemas.openxmlformats.org/drawingml/2006/table">
            <a:tbl>
              <a:tblPr/>
              <a:tblGrid>
                <a:gridCol w="720720"/>
                <a:gridCol w="722520"/>
                <a:gridCol w="720720"/>
                <a:gridCol w="720720"/>
                <a:gridCol w="720720"/>
                <a:gridCol w="738000"/>
                <a:gridCol w="704880"/>
                <a:gridCol w="720720"/>
                <a:gridCol w="720720"/>
                <a:gridCol w="722520"/>
                <a:gridCol w="720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Text Box 30"/>
          <p:cNvSpPr/>
          <p:nvPr/>
        </p:nvSpPr>
        <p:spPr>
          <a:xfrm>
            <a:off x="531720" y="5375160"/>
            <a:ext cx="667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굴림"/>
              </a:rPr>
              <a:t>Source Code of Quicksort vers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rbel"/>
                <a:ea typeface="宋体"/>
              </a:rPr>
              <a:t>[Handling Small Partitions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If you use the median-of-three partitioning method, the quicksort algorithm will not work for partitions of three or fewer item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utoff poi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Cutoff point 3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Cutoff point 9 is recommended by Knuth and considered where the best performance lies. But, it will depend on your computer, operating system, compiler (or interpreter), and so 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846000" y="6019920"/>
            <a:ext cx="737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Revised Source Code of Quicksort version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Radix: a base of a system of numb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Algorithm of Radix Sor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Time Complexity of Radix Sort: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O(K(N+d)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where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K = the number of digits in key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N = the number of key values (= the number of input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d = the number of radi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The Shellsort is named for Donard L. Shell, the computer scientist who discovered it in 195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Objective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To sort a sequence of numb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Method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Based on the insertion sort, but adds a new feature that dramatically improves the insertion 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s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t: ShellS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iminishing Gap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Also called Interval sequence or gap sequ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Time complexity of Shell sort depends mainly on the interval sequ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uggested interval sequ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rbel"/>
                <a:ea typeface="굴림"/>
              </a:rPr>
              <a:t>(Option 1)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N/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In Sh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original 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(Advantage) 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t need to calculate the sequ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(Disadvantage) it sometimes degenerates to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), which is no better than the insertion sor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rbel"/>
                <a:ea typeface="굴림"/>
              </a:rPr>
              <a:t>(Option 2)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N/2.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(Advantage) Better than the sequence of N/2 in terms of time complex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(Disadvantage) Some extra code is needed to ensure that the last value in the sequence is 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rbel"/>
                <a:ea typeface="굴림"/>
              </a:rPr>
              <a:t>(Option 3)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Interval sequence suggested b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Flamin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based on the following co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if (h &lt; 5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h =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h = (5*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 1)/1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rbel"/>
                <a:ea typeface="굴림"/>
              </a:rPr>
              <a:t>(Option 4)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Interval sequence suggested b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Knu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based on the following eq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h = h*3 +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Known as the best interval sequence in terms of time complexity until n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rbel"/>
                <a:ea typeface="굴림"/>
              </a:rPr>
              <a:t>(Option 5)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You can try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your own interval sequenc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 hlee3</cp:lastModifiedBy>
  <dcterms:modified xsi:type="dcterms:W3CDTF">2011-11-30T16:51:34Z</dcterms:modified>
  <cp:revision>96</cp:revision>
  <dc:subject/>
  <dc:title>Object-Oriented Design &amp; Patterns Cay S. Horstmann   Chapter 2 The Object-Oriented Design Process </dc:title>
</cp:coreProperties>
</file>